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7.xml.rels" ContentType="application/vnd.openxmlformats-package.relationships+xml"/>
  <Override PartName="/ppt/notesSlides/_rels/notesSlide231.xml.rels" ContentType="application/vnd.openxmlformats-package.relationships+xml"/>
  <Override PartName="/ppt/notesSlides/_rels/notesSlide209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209.xml" ContentType="application/vnd.openxmlformats-officedocument.presentationml.notesSlide+xml"/>
  <Override PartName="/ppt/notesSlides/notesSlide231.xml" ContentType="application/vnd.openxmlformats-officedocument.presentationml.notesSlide+xml"/>
  <Override PartName="/ppt/notesSlides/notesSlide2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80.wmf" ContentType="image/x-wmf"/>
  <Override PartName="/ppt/media/image57.png" ContentType="image/png"/>
  <Override PartName="/ppt/media/image56.png" ContentType="image/png"/>
  <Override PartName="/ppt/media/image55.png" ContentType="image/png"/>
  <Override PartName="/ppt/media/image49.wmf" ContentType="image/x-wmf"/>
  <Override PartName="/ppt/media/image100.wmf" ContentType="image/x-wmf"/>
  <Override PartName="/ppt/media/image48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0.png" ContentType="image/png"/>
  <Override PartName="/ppt/media/image38.wmf" ContentType="image/x-wmf"/>
  <Override PartName="/ppt/media/image32.jpeg" ContentType="image/jpeg"/>
  <Override PartName="/ppt/media/image33.wmf" ContentType="image/x-wmf"/>
  <Override PartName="/ppt/media/image47.wmf" ContentType="image/x-wmf"/>
  <Override PartName="/ppt/media/image31.jpeg" ContentType="image/jpeg"/>
  <Override PartName="/ppt/media/image93.wmf" ContentType="image/x-wmf"/>
  <Override PartName="/ppt/media/image30.png" ContentType="image/png"/>
  <Override PartName="/ppt/media/image98.wmf" ContentType="image/x-wmf"/>
  <Override PartName="/ppt/media/image39.png" ContentType="image/png"/>
  <Override PartName="/ppt/media/image61.wmf" ContentType="image/x-wmf"/>
  <Override PartName="/ppt/media/image53.wmf" ContentType="image/x-wmf"/>
  <Override PartName="/ppt/media/image13.png" ContentType="image/png"/>
  <Override PartName="/ppt/media/image1.png" ContentType="image/png"/>
  <Override PartName="/ppt/media/image41.wmf" ContentType="image/x-wmf"/>
  <Override PartName="/ppt/media/image7.png" ContentType="image/png"/>
  <Override PartName="/ppt/media/image19.png" ContentType="image/png"/>
  <Override PartName="/ppt/media/image84.png" ContentType="image/png"/>
  <Override PartName="/ppt/media/image8.png" ContentType="image/png"/>
  <Override PartName="/ppt/media/image52.wmf" ContentType="image/x-wmf"/>
  <Override PartName="/ppt/media/image95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51.wmf" ContentType="image/x-wmf"/>
  <Override PartName="/ppt/media/image29.png" ContentType="image/png"/>
  <Override PartName="/ppt/media/image11.png" ContentType="image/png"/>
  <Override PartName="/ppt/media/image79.wmf" ContentType="image/x-wmf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50.wmf" ContentType="image/x-wmf"/>
  <Override PartName="/ppt/media/image28.png" ContentType="image/png"/>
  <Override PartName="/ppt/media/image10.png" ContentType="image/png"/>
  <Override PartName="/ppt/media/image78.wmf" ContentType="image/x-wmf"/>
  <Override PartName="/ppt/media/image35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74.wmf" ContentType="image/x-wmf"/>
  <Override PartName="/ppt/media/image75.wmf" ContentType="image/x-wmf"/>
  <Override PartName="/ppt/media/image77.wmf" ContentType="image/x-wmf"/>
  <Override PartName="/ppt/media/image106.png" ContentType="image/png"/>
  <Override PartName="/ppt/media/image62.png" ContentType="image/png"/>
  <Override PartName="/ppt/media/image82.wmf" ContentType="image/x-wmf"/>
  <Override PartName="/ppt/media/image86.wmf" ContentType="image/x-wmf"/>
  <Override PartName="/ppt/media/image87.png" ContentType="image/png"/>
  <Override PartName="/ppt/media/image90.wmf" ContentType="image/x-wmf"/>
  <Override PartName="/ppt/media/image94.wmf" ContentType="image/x-wmf"/>
  <Override PartName="/ppt/media/image101.wmf" ContentType="image/x-wmf"/>
  <Override PartName="/ppt/media/image96.wmf" ContentType="image/x-wmf"/>
  <Override PartName="/ppt/media/image103.wmf" ContentType="image/x-wmf"/>
  <Override PartName="/ppt/media/image115.wmf" ContentType="image/x-wmf"/>
  <Override PartName="/ppt/media/image71.wmf" ContentType="image/x-wmf"/>
  <Override PartName="/ppt/media/image76.wmf" ContentType="image/x-wmf"/>
  <Override PartName="/ppt/media/image113.png" ContentType="image/png"/>
  <Override PartName="/ppt/media/image67.wmf" ContentType="image/x-wmf"/>
  <Override PartName="/ppt/media/image112.wmf" ContentType="image/x-wmf"/>
  <Override PartName="/ppt/media/image89.wmf" ContentType="image/x-wmf"/>
  <Override PartName="/ppt/media/image111.wmf" ContentType="image/x-wmf"/>
  <Override PartName="/ppt/media/image102.png" ContentType="image/png"/>
  <Override PartName="/ppt/media/image73.wmf" ContentType="image/x-wmf"/>
  <Override PartName="/ppt/media/image110.png" ContentType="image/png"/>
  <Override PartName="/ppt/media/image108.wmf" ContentType="image/x-wmf"/>
  <Override PartName="/ppt/media/image64.wmf" ContentType="image/x-wmf"/>
  <Override PartName="/ppt/media/image24.png" ContentType="image/png"/>
  <Override PartName="/ppt/media/image88.wmf" ContentType="image/x-wmf"/>
  <Override PartName="/ppt/media/image107.wmf" ContentType="image/x-wmf"/>
  <Override PartName="/ppt/media/image63.wmf" ContentType="image/x-wmf"/>
  <Override PartName="/ppt/media/image23.png" ContentType="image/png"/>
  <Override PartName="/ppt/media/image85.wmf" ContentType="image/x-wmf"/>
  <Override PartName="/ppt/media/image105.wmf" ContentType="image/x-wmf"/>
  <Override PartName="/ppt/media/image104.wmf" ContentType="image/x-wmf"/>
  <Override PartName="/ppt/media/image116.png" ContentType="image/png"/>
  <Override PartName="/ppt/media/image99.wmf" ContentType="image/x-wmf"/>
  <Override PartName="/ppt/media/image72.wmf" ContentType="image/x-wmf"/>
  <Override PartName="/ppt/media/image70.png" ContentType="image/png"/>
  <Override PartName="/ppt/media/image68.wmf" ContentType="image/x-wmf"/>
  <Override PartName="/ppt/media/image69.wmf" ContentType="image/x-wmf"/>
  <Override PartName="/ppt/media/image66.wmf" ContentType="image/x-wmf"/>
  <Override PartName="/ppt/media/image91.png" ContentType="image/png"/>
  <Override PartName="/ppt/media/image26.png" ContentType="image/png"/>
  <Override PartName="/ppt/media/image65.wmf" ContentType="image/x-wmf"/>
  <Override PartName="/ppt/media/image25.png" ContentType="image/png"/>
  <Override PartName="/ppt/media/image114.wmf" ContentType="image/x-wmf"/>
  <Override PartName="/ppt/media/image60.png" ContentType="image/png"/>
  <Override PartName="/ppt/media/image118.wmf" ContentType="image/x-wmf"/>
  <Override PartName="/ppt/media/image21.wmf" ContentType="image/x-wmf"/>
  <Override PartName="/ppt/media/image22.png" ContentType="image/png"/>
  <Override PartName="/ppt/media/image119.png" ContentType="image/png"/>
  <Override PartName="/ppt/media/image117.wmf" ContentType="image/x-wmf"/>
  <Override PartName="/ppt/media/image20.wmf" ContentType="image/x-wmf"/>
  <Override PartName="/ppt/media/image59.wmf" ContentType="image/x-wmf"/>
  <Override PartName="/ppt/media/image97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3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10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217.xml.rels" ContentType="application/vnd.openxmlformats-package.relationships+xml"/>
  <Override PartName="/ppt/slides/_rels/slide114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210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7.xml.rels" ContentType="application/vnd.openxmlformats-package.relationships+xml"/>
  <Override PartName="/ppt/slides/_rels/slide237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211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204.xml.rels" ContentType="application/vnd.openxmlformats-package.relationships+xml"/>
  <Override PartName="/ppt/slides/_rels/slide196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188.xml.rels" ContentType="application/vnd.openxmlformats-package.relationships+xml"/>
  <Override PartName="/ppt/slides/_rels/slide16.xml.rels" ContentType="application/vnd.openxmlformats-package.relationships+xml"/>
  <Override PartName="/ppt/slides/_rels/slide222.xml.rels" ContentType="application/vnd.openxmlformats-package.relationships+xml"/>
  <Override PartName="/ppt/slides/_rels/slide42.xml.rels" ContentType="application/vnd.openxmlformats-package.relationships+xml"/>
  <Override PartName="/ppt/slides/_rels/slide169.xml.rels" ContentType="application/vnd.openxmlformats-package.relationships+xml"/>
  <Override PartName="/ppt/slides/_rels/slide221.xml.rels" ContentType="application/vnd.openxmlformats-package.relationships+xml"/>
  <Override PartName="/ppt/slides/_rels/slide41.xml.rels" ContentType="application/vnd.openxmlformats-package.relationships+xml"/>
  <Override PartName="/ppt/slides/_rels/slide206.xml.rels" ContentType="application/vnd.openxmlformats-package.relationships+xml"/>
  <Override PartName="/ppt/slides/_rels/slide150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99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13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154.xml.rels" ContentType="application/vnd.openxmlformats-package.relationships+xml"/>
  <Override PartName="/ppt/slides/_rels/slide3.xml.rels" ContentType="application/vnd.openxmlformats-package.relationships+xml"/>
  <Override PartName="/ppt/slides/_rels/slide16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223.xml.rels" ContentType="application/vnd.openxmlformats-package.relationships+xml"/>
  <Override PartName="/ppt/slides/_rels/slide43.xml.rels" ContentType="application/vnd.openxmlformats-package.relationships+xml"/>
  <Override PartName="/ppt/slides/_rels/slide18.xml.rels" ContentType="application/vnd.openxmlformats-package.relationships+xml"/>
  <Override PartName="/ppt/slides/_rels/slide170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72.xml.rels" ContentType="application/vnd.openxmlformats-package.relationships+xml"/>
  <Override PartName="/ppt/slides/_rels/slide155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136.xml.rels" ContentType="application/vnd.openxmlformats-package.relationships+xml"/>
  <Override PartName="/ppt/slides/_rels/slide59.xml.rels" ContentType="application/vnd.openxmlformats-package.relationships+xml"/>
  <Override PartName="/ppt/slides/_rels/slide60.xml.rels" ContentType="application/vnd.openxmlformats-package.relationships+xml"/>
  <Override PartName="/ppt/slides/_rels/slide236.xml.rels" ContentType="application/vnd.openxmlformats-package.relationships+xml"/>
  <Override PartName="/ppt/slides/_rels/slide56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49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52.xml.rels" ContentType="application/vnd.openxmlformats-package.relationships+xml"/>
  <Override PartName="/ppt/slides/_rels/slide232.xml.rels" ContentType="application/vnd.openxmlformats-package.relationships+xml"/>
  <Override PartName="/ppt/slides/_rels/slide53.xml.rels" ContentType="application/vnd.openxmlformats-package.relationships+xml"/>
  <Override PartName="/ppt/slides/_rels/slide233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54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205.xml.rels" ContentType="application/vnd.openxmlformats-package.relationships+xml"/>
  <Override PartName="/ppt/slides/_rels/slide197.xml.rels" ContentType="application/vnd.openxmlformats-package.relationships+xml"/>
  <Override PartName="/ppt/slides/_rels/slide25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167.xml.rels" ContentType="application/vnd.openxmlformats-package.relationships+xml"/>
  <Override PartName="/ppt/slides/_rels/slide179.xml.rels" ContentType="application/vnd.openxmlformats-package.relationships+xml"/>
  <Override PartName="/ppt/slides/_rels/slide231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235.xml.rels" ContentType="application/vnd.openxmlformats-package.relationships+xml"/>
  <Override PartName="/ppt/slides/_rels/slide5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02.xml" ContentType="application/vnd.openxmlformats-officedocument.presentationml.slide+xml"/>
  <Override PartName="/ppt/slides/slide226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227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228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230.xml" ContentType="application/vnd.openxmlformats-officedocument.presentationml.slide+xml"/>
  <Override PartName="/ppt/slides/slide136.xml" ContentType="application/vnd.openxmlformats-officedocument.presentationml.slide+xml"/>
  <Override PartName="/ppt/slides/slide229.xml" ContentType="application/vnd.openxmlformats-officedocument.presentationml.slide+xml"/>
  <Override PartName="/ppt/slides/slide146.xml" ContentType="application/vnd.openxmlformats-officedocument.presentationml.slide+xml"/>
  <Override PartName="/ppt/slides/slide231.xml" ContentType="application/vnd.openxmlformats-officedocument.presentationml.slide+xml"/>
  <Override PartName="/ppt/slides/slide137.xml" ContentType="application/vnd.openxmlformats-officedocument.presentationml.slide+xml"/>
  <Override PartName="/ppt/slides/slide147.xml" ContentType="application/vnd.openxmlformats-officedocument.presentationml.slide+xml"/>
  <Override PartName="/ppt/slides/slide232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233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234.xml" ContentType="application/vnd.openxmlformats-officedocument.presentationml.slide+xml"/>
  <Override PartName="/ppt/slides/slide41.xml" ContentType="application/vnd.openxmlformats-officedocument.presentationml.slide+xml"/>
  <Override PartName="/ppt/slides/slide235.xml" ContentType="application/vnd.openxmlformats-officedocument.presentationml.slide+xml"/>
  <Override PartName="/ppt/slides/slide42.xml" ContentType="application/vnd.openxmlformats-officedocument.presentationml.slide+xml"/>
  <Override PartName="/ppt/slides/slide236.xml" ContentType="application/vnd.openxmlformats-officedocument.presentationml.slide+xml"/>
  <Override PartName="/ppt/slides/slide43.xml" ContentType="application/vnd.openxmlformats-officedocument.presentationml.slide+xml"/>
  <Override PartName="/ppt/slides/slide225.xml" ContentType="application/vnd.openxmlformats-officedocument.presentationml.slide+xml"/>
  <Override PartName="/ppt/slides/slide32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237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3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222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221.xml" ContentType="application/vnd.openxmlformats-officedocument.presentationml.slide+xml"/>
  <Override PartName="/ppt/slides/slide219.xml" ContentType="application/vnd.openxmlformats-officedocument.presentationml.slide+xml"/>
  <Override PartName="/ppt/slides/slide220.xml" ContentType="application/vnd.openxmlformats-officedocument.presentationml.slide+xml"/>
  <Override PartName="/ppt/slides/slide216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210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066C-CA6E-4AF7-B481-6E36DDBEA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209.xml.rels><?xml version="1.0" encoding="UTF-8"?>
<Relationships xmlns="http://schemas.openxmlformats.org/package/2006/relationships"><Relationship Id="rId1" Type="http://schemas.openxmlformats.org/officeDocument/2006/relationships/slide" Target="../slides/slide209.xml"/><Relationship Id="rId2" Type="http://schemas.openxmlformats.org/officeDocument/2006/relationships/notesMaster" Target="../notesMasters/notesMaster1.xml"/>
</Relationships>
</file>

<file path=ppt/notesSlides/_rels/notesSlide231.xml.rels><?xml version="1.0" encoding="UTF-8"?>
<Relationships xmlns="http://schemas.openxmlformats.org/package/2006/relationships"><Relationship Id="rId1" Type="http://schemas.openxmlformats.org/officeDocument/2006/relationships/slide" Target="../slides/slide231.xml"/><Relationship Id="rId2" Type="http://schemas.openxmlformats.org/officeDocument/2006/relationships/notesMaster" Target="../notesMasters/notesMaster1.xml"/>
</Relationships>
</file>

<file path=ppt/notesSlides/_rels/notesSlide237.xml.rels><?xml version="1.0" encoding="UTF-8"?>
<Relationships xmlns="http://schemas.openxmlformats.org/package/2006/relationships"><Relationship Id="rId1" Type="http://schemas.openxmlformats.org/officeDocument/2006/relationships/slide" Target="../slides/slide237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03F0-E195-4090-BFD7-7331CE2EB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B94D-72E6-4F74-9C4F-1E321B460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FCCA-48FA-4E22-80D3-C9AF45081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B669-75BB-414D-A60C-10E3608EF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D8AB-ACFF-46E9-8E38-F6DE8E4A0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7C4-E6BF-4045-8DF1-2611D1BA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E78-7F08-4D3F-B289-7AFB9828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C7F-FA35-4348-9CC3-3920D563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70B-6283-445E-BE6D-F30393CC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D9C-7236-49CE-B97A-0CEF5BD7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4A5-27CE-494B-B9C3-8D9D7E50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8FD-8A9B-4920-83F9-1ABC5C37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813-0464-4B0E-A228-4E6D6ECB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D67-9814-43E2-854E-86B02D79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C9D-DD42-42A8-8ED8-B0ADCF86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824-9CD7-40D9-A81B-0B7ACD92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830-B962-4B95-A513-820713EC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49840"/>
            <a:ext cx="2895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498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884E-8847-4481-922F-B14254C07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wmf"/><Relationship Id="rId3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image" Target="../media/image105.wmf"/><Relationship Id="rId2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12.wmf"/><Relationship Id="rId3" Type="http://schemas.openxmlformats.org/officeDocument/2006/relationships/slideLayout" Target="../slideLayouts/slideLayout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slideLayout" Target="../slideLayouts/slideLayout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slideLayout" Target="../slideLayouts/slideLayout1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slideLayout" Target="../slideLayouts/slideLayout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image" Target="../media/image117.wmf"/><Relationship Id="rId2" Type="http://schemas.openxmlformats.org/officeDocument/2006/relationships/image" Target="../media/image118.wmf"/><Relationship Id="rId3" Type="http://schemas.openxmlformats.org/officeDocument/2006/relationships/slideLayout" Target="../slideLayouts/slideLayout1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7B84-1F5E-407D-AB9F-72D2318FB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DL – resistor-diode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619280" y="1969920"/>
            <a:ext cx="539100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7766-1FA2-4F4C-A44B-7DF2323D6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ICW4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Fig829a"/>
          <p:cNvPicPr/>
          <p:nvPr/>
        </p:nvPicPr>
        <p:blipFill>
          <a:blip r:embed="rId1"/>
          <a:srcRect l="0" t="67645" r="0" b="4750"/>
          <a:stretch/>
        </p:blipFill>
        <p:spPr>
          <a:xfrm>
            <a:off x="900000" y="1989000"/>
            <a:ext cx="7201080" cy="417996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4"/>
          <p:cNvSpPr/>
          <p:nvPr/>
        </p:nvSpPr>
        <p:spPr>
          <a:xfrm>
            <a:off x="971640" y="5373720"/>
            <a:ext cx="1655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5"/>
          <p:cNvSpPr/>
          <p:nvPr/>
        </p:nvSpPr>
        <p:spPr>
          <a:xfrm>
            <a:off x="5796000" y="2492280"/>
            <a:ext cx="1944720" cy="289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683B-B50D-4B94-8BDD-DEC640F93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ICW4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EO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– Активира аутоматско брисање бита у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гиистру по прихватању одговарајућег захтјева (узлазна ивица другог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A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мпулс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uffered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д – користе се додатни бафери који се отварају сигналом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/EN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 се мастер/славе мора задати софтвер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ED31-46AF-4CC7-BDB9-BC187474F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ully Nested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разумијевани м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ази имају приорит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к је сетован неки бит 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R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 даљи захтјеви истог или нижег приоритета се одбија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јални мод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FN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се користи када мастер има на неком улаз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lav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 се омогући приоритетно опслуживање свих захтј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ве није маскиран по прихватању његовог захтје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аље с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OI slave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, испитује се да ли има још нек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 истом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lave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 нема шаље с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OI master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FE13-5BDD-4DA2-8C8F-AE0A91CC6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OCW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ра се посла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8259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Fig830"/>
          <p:cNvPicPr/>
          <p:nvPr/>
        </p:nvPicPr>
        <p:blipFill>
          <a:blip r:embed="rId1"/>
          <a:srcRect l="17909" t="0" r="18333" b="85476"/>
          <a:stretch/>
        </p:blipFill>
        <p:spPr>
          <a:xfrm>
            <a:off x="609480" y="2895480"/>
            <a:ext cx="7777440" cy="204480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5"/>
          <p:cNvSpPr/>
          <p:nvPr/>
        </p:nvSpPr>
        <p:spPr>
          <a:xfrm>
            <a:off x="1981080" y="4648320"/>
            <a:ext cx="1224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2050920" y="5373720"/>
            <a:ext cx="100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oter Placeholder 3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4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5174-50C2-4233-92C1-1BE14C292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OCW2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Fig830"/>
          <p:cNvPicPr/>
          <p:nvPr/>
        </p:nvPicPr>
        <p:blipFill>
          <a:blip r:embed="rId1"/>
          <a:srcRect l="11187" t="15584" r="11112" b="43892"/>
          <a:stretch/>
        </p:blipFill>
        <p:spPr>
          <a:xfrm>
            <a:off x="539640" y="1844640"/>
            <a:ext cx="77043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8982-EE09-4CB1-A6D9-E6DC66236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OCW2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вије врсте команд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N-SPECIFI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команда се односи на управо опслужени захтјев (највећег приорите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задаје се и број улаза на који се команда одно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анда за брисање одговарајућег бита 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 да контролер сазна када се која рутина заршила и да на основу тога исправно ради са приоритет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E6B8-1F48-4E9A-8383-24A67A4C6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OCW2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утоматско ротирање – 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EOI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ду, након опслуживања долази до ротирања приоритета, тај ниво постаје најнижег приорит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ецифично ротирање ротира тако да задати улаз постане најнижег приорит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 је управо опслужен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ти, Нови приоритети су (највиши ка најнижем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+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+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CA5A-9141-4C94-AA22-7864E539B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OCW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5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7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CD51-EB3C-4062-AC12-6964F4F27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ll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команда значи да се следећ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D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атра као дозв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анда се мора поновити сваки пут када се жели прихватање броја у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авља се одговарајући бит 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R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8259а шаље број улаз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61358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10D2-2A9B-4447-A464-7CAA2AF89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Читање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MR, IRR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даје се одговарајућ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CW3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ће једну команду користити више пута (ако се једном постави читањ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R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докле год желимо да читамо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вољно је да читамо са одговарајуће адресе – није потребна нова коман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следећ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D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аље се одговарајућа вриједн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CW1 =&gt;IM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CW3 =&gt;ISR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умачење напонских ниво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зитивна лог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ок напонски ниво = логичко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изак напонски ниво = логичка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егативна лог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ок напонски ниво = логичка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изак напонски ниво = логичко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дразумјеваћемо позитивну лог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EF13-CE83-4DA3-A64D-706A65893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56EF-EB3E-47B2-972F-0768D1BD7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пецијалне мас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аси класични механизам приорит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прихватају се прекиди истог тип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и се већ обрађују ако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R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није обрис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прихватају се ни маски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хватају се сви немаскирани без обзира на приори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ајмер 82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3324-45FF-4CAA-A35D-D3F1A70F8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Основне карактерис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 независна 16-битна програмабилна броја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нарно и БЦД бројањ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и има свој такт до 8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z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8254-2 до 1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H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6 модова р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итање без заустављања броја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овремено читање више броја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8814-744F-4AC2-9ADF-2C856F5B3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254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спољ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6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2853000" cy="304956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7"/>
          <p:cNvSpPr/>
          <p:nvPr/>
        </p:nvSpPr>
        <p:spPr>
          <a:xfrm>
            <a:off x="3048120" y="2666880"/>
            <a:ext cx="304560" cy="1752840"/>
          </a:xfrm>
          <a:custGeom>
            <a:avLst/>
            <a:gdLst>
              <a:gd name="textAreaLeft" fmla="*/ 194760 w 304560"/>
              <a:gd name="textAreaRight" fmla="*/ 304920 w 304560"/>
              <a:gd name="textAreaTop" fmla="*/ 54360 h 1752840"/>
              <a:gd name="textAreaBottom" fmla="*/ 169848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76"/>
                  <a:pt x="10800" y="2152"/>
                </a:cubicBezTo>
                <a:lnTo>
                  <a:pt x="10800" y="8648"/>
                </a:lnTo>
                <a:cubicBezTo>
                  <a:pt x="10800" y="9724"/>
                  <a:pt x="5400" y="10800"/>
                  <a:pt x="0" y="10800"/>
                </a:cubicBezTo>
                <a:cubicBezTo>
                  <a:pt x="5400" y="10800"/>
                  <a:pt x="10800" y="11876"/>
                  <a:pt x="10800" y="12952"/>
                </a:cubicBezTo>
                <a:lnTo>
                  <a:pt x="10800" y="19448"/>
                </a:lnTo>
                <a:cubicBezTo>
                  <a:pt x="10800" y="205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609480" y="312408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8-битна магистр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ат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3048120" y="457200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0"/>
          <p:cNvSpPr/>
          <p:nvPr/>
        </p:nvSpPr>
        <p:spPr>
          <a:xfrm>
            <a:off x="1828800" y="464832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јмер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1"/>
          <p:cNvSpPr/>
          <p:nvPr/>
        </p:nvSpPr>
        <p:spPr>
          <a:xfrm>
            <a:off x="5943600" y="411480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2"/>
          <p:cNvSpPr/>
          <p:nvPr/>
        </p:nvSpPr>
        <p:spPr>
          <a:xfrm>
            <a:off x="5943600" y="480060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3"/>
          <p:cNvSpPr/>
          <p:nvPr/>
        </p:nvSpPr>
        <p:spPr>
          <a:xfrm>
            <a:off x="5943600" y="3657600"/>
            <a:ext cx="228600" cy="38088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4"/>
          <p:cNvSpPr/>
          <p:nvPr/>
        </p:nvSpPr>
        <p:spPr>
          <a:xfrm>
            <a:off x="5943600" y="2895480"/>
            <a:ext cx="228600" cy="60984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5"/>
          <p:cNvSpPr/>
          <p:nvPr/>
        </p:nvSpPr>
        <p:spPr>
          <a:xfrm>
            <a:off x="6248520" y="487692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јмер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6"/>
          <p:cNvSpPr/>
          <p:nvPr/>
        </p:nvSpPr>
        <p:spPr>
          <a:xfrm>
            <a:off x="6248520" y="419112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јмер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7"/>
          <p:cNvSpPr/>
          <p:nvPr/>
        </p:nvSpPr>
        <p:spPr>
          <a:xfrm>
            <a:off x="6248520" y="3657600"/>
            <a:ext cx="2133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4 интерне адре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8"/>
          <p:cNvSpPr/>
          <p:nvPr/>
        </p:nvSpPr>
        <p:spPr>
          <a:xfrm>
            <a:off x="6248520" y="2895480"/>
            <a:ext cx="13716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рол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гн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AD55-D500-43D5-BA22-9BC0B09A6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8254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изну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4775040" cy="448956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8"/>
          <p:cNvSpPr/>
          <p:nvPr/>
        </p:nvSpPr>
        <p:spPr>
          <a:xfrm>
            <a:off x="6095880" y="2895480"/>
            <a:ext cx="26672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ате је сигнал ко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ардверски дозвољ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 ресетује број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FE8F-4842-4230-B2E6-E2041DA3E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терне адре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линије чипа А0 и А1 никад не повезивати А0 адресне магистр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чешће се повезују на А1 и А2 адресне магистр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ступ бројачима – читање или упис вриједности број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8" descr=""/>
          <p:cNvPicPr/>
          <p:nvPr/>
        </p:nvPicPr>
        <p:blipFill>
          <a:blip r:embed="rId1"/>
          <a:stretch/>
        </p:blipFill>
        <p:spPr>
          <a:xfrm>
            <a:off x="1066680" y="4648320"/>
            <a:ext cx="6908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278E-6593-4686-8EC1-A9E7D8BA7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Један бројач изну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3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48640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8934-B793-435E-A4F3-66C03427E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нтролни регист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7" descr=""/>
          <p:cNvPicPr/>
          <p:nvPr/>
        </p:nvPicPr>
        <p:blipFill>
          <a:blip r:embed="rId1"/>
          <a:stretch/>
        </p:blipFill>
        <p:spPr>
          <a:xfrm>
            <a:off x="1098720" y="1600200"/>
            <a:ext cx="6946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C71E-DE04-44F6-B205-08C803B39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ицијализ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ина два 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сваки бројач прво контролна ријеч, па почетна вриједно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етна вриједност мора бити у задатом формату (само виши бајт, само нижи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ће понављати упис почетне вриједности без поовног уписа контролне риј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ити рачуна да само једна нит може да уписује – ако дође до преплитања двије нити које врше упис почетне вриједности, могућ некоректан уп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5347-569C-4CD7-B2B7-8AE50C276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Читање број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и могућа начи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то читањ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човање појединачног бројач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ad-back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а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сто читањ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кт мора бити забрањен са Гате улазом или екстерном логиком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 доћи до читања недефинисане вријед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AB1E-CEF3-4F67-A159-C7CA72B19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DL – resistor-diode logic - примј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447920" y="1754280"/>
            <a:ext cx="595620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405A-C6AD-4AB7-AEA3-F1AACEB79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Лечовање појединачног број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аље се команда за лечовање одговарајућег број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иједност остаје залечована у излазним леч колима 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тање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програмир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утиче на мод број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редна лечовања прије читања се игнориш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6" descr=""/>
          <p:cNvPicPr/>
          <p:nvPr/>
        </p:nvPicPr>
        <p:blipFill>
          <a:blip r:embed="rId1"/>
          <a:stretch/>
        </p:blipFill>
        <p:spPr>
          <a:xfrm>
            <a:off x="4794120" y="1801800"/>
            <a:ext cx="37450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AFCA-D2EA-49D2-96BB-6529A98A7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ad-back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манда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мћење вриједности и статуса једног или више бројача у једном трену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мћени бројачи као да су запамћени лечовањ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 наредна лечовања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ad-back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манде прије читања претходно лечованих вриједности се игнориш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8" descr=""/>
          <p:cNvPicPr/>
          <p:nvPr/>
        </p:nvPicPr>
        <p:blipFill>
          <a:blip r:embed="rId1"/>
          <a:stretch/>
        </p:blipFill>
        <p:spPr>
          <a:xfrm>
            <a:off x="2666880" y="4267080"/>
            <a:ext cx="374328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1049-59E9-4781-9F50-3A1C73B03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татус број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бија с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ad-back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ан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ull Count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 да ли се последња уписана вриједност може прочитати (да ли је учитана у бројачки елемен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6" descr=""/>
          <p:cNvPicPr/>
          <p:nvPr/>
        </p:nvPicPr>
        <p:blipFill>
          <a:blip r:embed="rId1"/>
          <a:stretch/>
        </p:blipFill>
        <p:spPr>
          <a:xfrm>
            <a:off x="622440" y="2795760"/>
            <a:ext cx="37065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AB83-F368-4533-A703-87C4D7F74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ad-back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случају лечовања и статуса и бројача, чита се прво статус, па онда бројач, без обзира шта је прво лечовано (ако се деси да су бројач и статус лечовани различитим командам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414E-4D19-40D0-959A-FDC9BE495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ad-back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је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5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84872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7D26-8C62-47CB-B7D7-4DB8B17CC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ови – потребне дефини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LK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лс – узлазна и силазна ивица у том редослије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кидач – узлазна ивица Гате сигн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итавање бројача – Упис вриједности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хватног регистра у број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9716-EEA3-4399-B1E1-3DE0B5518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дови број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6 модов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дови су приказани кроз временске дијаграме таласниих облика за које веж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инарн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BCD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роја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LSB (Least Significant By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ројач је увијек селектован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=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спод дијаграма су вриједности број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дефинисана вриједност број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ижи број је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LSB,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 виш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MSB (ne čita 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ертикалне линије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лази између вријед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1679-255F-4F6F-BDCE-96E6FABA1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297648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297648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297648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д 0 – прекид на последњем бро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ично се користи као бројач догађ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GATE=1 - бројач активан за бројањ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ма утицаја на изла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 спречава учитавање броја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пис бројача од 2 бај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уставља бројање након уписа првог бајта и излаз обара на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кон уписа другог, на следећи пулс такта учитава бројач и наставља са бројањем (исто и при само једном бајт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и пулс такта учитава број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и наредни смањи бројач з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лаз остаје на 0 док не доброји до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68F7-E198-4604-A40B-2BA5259E8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д 0 – прекид на последњем бро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32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1722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F1D8-F729-47CD-9366-312B0F684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Arial"/>
              </a:rPr>
              <a:t>Мод 0 – прекид на последњем број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4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639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112B-2569-4A36-AFAC-F40515BB5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иполарни транзис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вије врсте: пнп и нп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НПН има боље карактеристике и чешће се кори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оже да ради у више режим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кочен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сићен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стали реж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AD06-DE34-4341-B259-37B5DA2A6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Arial"/>
              </a:rPr>
              <a:t>Мод 0 – прекид на последњем број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4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60199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C53A-01E1-49B6-AF7E-2D4348487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1 – хардверски ретригерабилни са једним ско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ате – окидач (не утиче на излаз), на следећи пулс та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читава бројач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ара излаз на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а доброји до 0, излаз постаје 1 и остаје тако до следећег пулса такта после оки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тригерабилан – броји н тактова после последњег окид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пис новог бројача не утиче на тренутно бројање, осим ако се поново ок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197D-63E7-46BF-880D-02DE4E5F8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1 – хардверски ретригерабилни са једним ско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5" descr=""/>
          <p:cNvPicPr/>
          <p:nvPr/>
        </p:nvPicPr>
        <p:blipFill>
          <a:blip r:embed="rId1"/>
          <a:stretch/>
        </p:blipFill>
        <p:spPr>
          <a:xfrm>
            <a:off x="1447920" y="2244600"/>
            <a:ext cx="60195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70CA-BE3D-4774-BF76-4C3B3B798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1 – хардверски ретригерабилни са једним ско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5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2481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ADEF-03B1-44B1-A9CB-BB631A794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1 – хардверски ретригерабилни са једним ско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5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248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E217-46E6-434F-8AFB-200D2F35A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2 – Генератор периодичних импул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ате – дозвола и оки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пис контролне ријечи (у овом тренутку излаз расте на 1) и бројача на следећи пулс такта учитава број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и до 1 и генерише 0 на излазу у трајању једног периода сигнала та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том опет учитава почетну вриједност и све пон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д Гате зауставља бројање и на излаз постављ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игер на следећи пулс такта учитава бројач и отпочиње број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пис нове вриједности бројача не утиче на текуће бројање, до новог учитавања или триг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3E4F-7846-4E4A-910A-26A61D919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2 – Генератор периодичних импул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5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0310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EA52-6306-482A-BB8B-3176D01F1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2 – Генератор периодичних импул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4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2020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537A-34E2-441F-838B-5CE6B340B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2 – Генератор периодичних импул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4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107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EF45-2A0B-439F-9016-B6EFE5122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3 – генератор правоугаоних импул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ате – дозвола и оки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кон уписа контролне ријечи (у овом тренутку излаз постаје 1) и бројача, на следећи пулс такта учитава се број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се доброји до пола, излаз остатак времена у циклусу остаје низ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Гате падне на 0, излаз одмах поставља н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идач учитава почетну вриједност на следећи пулс такта ако је стигао прије половине текућег цикл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супротном, нова вриједност ће бити учитана на крају текућег полуцикл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ан бројач – иста ширина 0 и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аран бројач – 1 је дуже за 1 период та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F8D4-7463-4914-8E00-88EC75383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ип. тр. из нашег уг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ристи се као преки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кочен – отворен преки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сићен – затворен прекидач са константним падом напон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Arial"/>
              </a:rPr>
              <a:t>CE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4E3C-0815-4F0C-8676-D8378FE76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3 – генератор правоугаоних импул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5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68929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71BF-9AA8-4EB1-891A-9DC8142FC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3 – генератор правоугаоних импул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4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6470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4CF4-41B4-49B3-9A20-F0623B315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3 – генератор правоугаоних импул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4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69516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D296-A6AD-4C84-B1E4-DE380958F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4 – софтверски окинут импул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ате – дозвола (не утиче на излаз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пис контролне ријечи (у овом тренутку излаз постаје 1) и бројача на следећи пулс такта учита број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бројач доброји до 0, генерише се 0 ширине једног периода т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пис новог бројача учитава тај бројач на следећи пулс т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случају два бајта исто као код мода 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DE28-8646-4133-92A3-60C626D39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4 – софтверски окинут импул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5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47064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BFBB-499F-4B87-BB2A-E08DB5BF8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4 – софтверски окинут импул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4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335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3962-5CFF-481D-8D05-8790E4B4D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4 – софтверски окинут импул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4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5833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3FAA-E967-4759-A66C-D0446DCE8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5 – хардверски окинут импул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ате – оки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о ради и генерише исти излаз као мод 4, 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ви бројач се учитава на следећи пулс такта после окидач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тригерабила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пис нове вриједности бројача не утиче на текуће број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7152-AA8F-4233-B476-73F12F719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5 – хардверски окинут импул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5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5609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8FF6-A711-40DC-9F47-E2579608A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5 – хардверски окинут импул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Picture 4" descr=""/>
          <p:cNvPicPr/>
          <p:nvPr/>
        </p:nvPicPr>
        <p:blipFill>
          <a:blip r:embed="rId1"/>
          <a:stretch/>
        </p:blipFill>
        <p:spPr>
          <a:xfrm>
            <a:off x="1143000" y="2143080"/>
            <a:ext cx="66913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E4B1-B28D-4CD8-B0F4-C8DA29F69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нектори бип. т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ролни ула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чуна се напон према емит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 – емит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ује се 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ND (NPN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ује се 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cc (PNP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ект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ује се за потрош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2787480" cy="12049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895480" y="5943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PN           P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2FD1-4044-483A-8132-9E973A60C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5 – хардверски окинут импул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57864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5D4A-737B-449F-BFDB-36329EB3E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једничко за све модо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пис контролне ријечи зауставља бројање и доводи излаз у почетно ст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ате се одабира на узлазну ивицу сигнала та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6" descr=""/>
          <p:cNvPicPr/>
          <p:nvPr/>
        </p:nvPicPr>
        <p:blipFill>
          <a:blip r:embed="rId1"/>
          <a:stretch/>
        </p:blipFill>
        <p:spPr>
          <a:xfrm>
            <a:off x="679320" y="1600200"/>
            <a:ext cx="359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еријски порт 8251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8F9E-2F88-4880-AAEC-5298899D2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Основне карактерис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нхрони и асинхрони серијски пренос подат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нхрона комуникација до 6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baud(?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синхрона комуникација до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8.4Kbaud(?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афери на пријему и слањ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текција грешака (парност, препуњавање бафера, неисправан окви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тролни сигнали за повезивање са моде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3EED-C585-4FC4-BD5D-C5081B347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8251а спољ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5" descr=""/>
          <p:cNvPicPr/>
          <p:nvPr/>
        </p:nvPicPr>
        <p:blipFill>
          <a:blip r:embed="rId1"/>
          <a:stretch/>
        </p:blipFill>
        <p:spPr>
          <a:xfrm>
            <a:off x="2676600" y="1600200"/>
            <a:ext cx="379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78E8-FDAD-45EA-A62F-2164C5D9E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8251а изну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5" descr=""/>
          <p:cNvPicPr/>
          <p:nvPr/>
        </p:nvPicPr>
        <p:blipFill>
          <a:blip r:embed="rId1"/>
          <a:stretch/>
        </p:blipFill>
        <p:spPr>
          <a:xfrm>
            <a:off x="2274840" y="1600200"/>
            <a:ext cx="459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46FB-A768-47BA-88E7-21D892824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терне адре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/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 – контрол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статусни регист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0 – подац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F351-51DA-4DC6-8FD2-86EA179B5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н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 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злазна линија за серијско слање подат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DY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реман да прихвати податак за сл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ијек низак ако је слање заустављ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ти пин у статусу присутан без маскир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пис податка од стран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обара овај сигнал са водећом ивицом сигнал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W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скиран ако је слање забрањено (контролна р. или 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MPTY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 ли су послати сви пода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синхрони: Висок ниво означава да је контролер празан – нема шта да се шаљ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нхрони: на високом нивоу ако нема још преосталог податка за слање и шаље се аутоматски синхронизациони к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x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Такт за слање податка. Шифтовање податка на силазну ивицу овог сиг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BD88-BA21-42C0-8491-D7EBFC7F0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н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XD –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улазна линија за серијске пода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xRDY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 постоји примљен податак спреман за читање од стране процесора. Постаје активан тек пошто се прихвати читав знак и пренесе у прихватни бафер. У случају не читања знака прије пријема следеће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ови знак се уписује умјесто старог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xC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 такт за пријемник. Може бити исти као и за предајник. Подаци се узоркују на узлазну ивицу овог сигнала (зашто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B7B2-5777-4F7D-9CE8-5EF6AAB97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н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YNDET/BRKD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нхрони м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лазни п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сетује се по ресету или читању стат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тује се по препознавању синхронизационог к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азни п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кон узлазне ивице овог сигнала на следећу узлазну ивицу такта почиње слагање подат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синхрони м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тиван ако је у току задња два узастопна стоп бита улаз био низ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активира се ресетом или појавом високог нивоа на ул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 се прочитати кроз стат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2B5D-12EC-4F02-B7D5-9C4D62EB6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кочен бип. т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наставку посматрамо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П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лов закочености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Arial"/>
              </a:rPr>
              <a:t>BE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вивалент кола се добија простим брисањем транзис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није које су биле повезане на конекторе транзистора остају неповез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953A-C0FC-413D-8DB8-C8AD7F696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нови – мод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ST (Data Set Read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– улазни пин, тестира се кроз стат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TR (Data Terminal Ready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TS (Request To Send)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лазни пинови контролабилни кроз контролни регист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TS (Clear To Send)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лазни пин, тестира се кроз статус. Активан ниво (низак) омогућава слање ако је слање дозвољено одговарајућом командом. Укидање дозволе шаље све што је уписано прије тога и потом зауставља сл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1894-5E42-4145-B193-CAAB5597B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а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један екстерни сигнал се не референцира на та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гнал такта мора имати бар 30 пута већу фреквенцију од фреквенције слања и пријема б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ично се веже н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C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34CF-17FF-45AB-9DE7-E896C644E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ицијализ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5" descr=""/>
          <p:cNvPicPr/>
          <p:nvPr/>
        </p:nvPicPr>
        <p:blipFill>
          <a:blip r:embed="rId1"/>
          <a:stretch/>
        </p:blipFill>
        <p:spPr>
          <a:xfrm>
            <a:off x="2658960" y="1600200"/>
            <a:ext cx="3824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B6F7-0AA5-45BB-8228-FDBDB6C34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нтролна рије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оје два ти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сетовање м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познаје се као први упис н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ерног ресета (улаз мора бити активан најмање 6 периода такта),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ног ресе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анд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 остали уписи у контролни регист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1520-BF84-43D3-A42B-66ED1A512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товање мода – асинхрони р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5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019920" cy="4957920"/>
          </a:xfrm>
          <a:prstGeom prst="rect">
            <a:avLst/>
          </a:prstGeom>
          <a:ln w="0">
            <a:noFill/>
          </a:ln>
        </p:spPr>
      </p:pic>
      <p:sp>
        <p:nvSpPr>
          <p:cNvPr id="840" name="AutoShape 6"/>
          <p:cNvSpPr/>
          <p:nvPr/>
        </p:nvSpPr>
        <p:spPr>
          <a:xfrm>
            <a:off x="228600" y="1981080"/>
            <a:ext cx="2057400" cy="1219320"/>
          </a:xfrm>
          <a:prstGeom prst="wedgeRectCallout">
            <a:avLst>
              <a:gd name="adj1" fmla="val 198148"/>
              <a:gd name="adj2" fmla="val -1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нос периода сигнала такта и трајања једног б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7"/>
          <p:cNvSpPr/>
          <p:nvPr/>
        </p:nvSpPr>
        <p:spPr>
          <a:xfrm>
            <a:off x="304920" y="3505320"/>
            <a:ext cx="2057400" cy="457200"/>
          </a:xfrm>
          <a:prstGeom prst="wedgeRectCallout">
            <a:avLst>
              <a:gd name="adj1" fmla="val 179629"/>
              <a:gd name="adj2" fmla="val 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а 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8"/>
          <p:cNvSpPr/>
          <p:nvPr/>
        </p:nvSpPr>
        <p:spPr>
          <a:xfrm>
            <a:off x="228600" y="4191120"/>
            <a:ext cx="2057400" cy="990360"/>
          </a:xfrm>
          <a:prstGeom prst="wedgeRectCallout">
            <a:avLst>
              <a:gd name="adj1" fmla="val 181171"/>
              <a:gd name="adj2" fmla="val 20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штита додавањем бита па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B3DF-31E7-44F7-B968-F2E990D83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товање мода – синхрони р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5" descr=""/>
          <p:cNvPicPr/>
          <p:nvPr/>
        </p:nvPicPr>
        <p:blipFill>
          <a:blip r:embed="rId1"/>
          <a:stretch/>
        </p:blipFill>
        <p:spPr>
          <a:xfrm>
            <a:off x="1447920" y="1422360"/>
            <a:ext cx="624816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D990-C1AC-4270-9ABF-F5413C1B7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ма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"/>
          <p:cNvPicPr/>
          <p:nvPr/>
        </p:nvPicPr>
        <p:blipFill>
          <a:blip r:embed="rId1"/>
          <a:stretch/>
        </p:blipFill>
        <p:spPr>
          <a:xfrm>
            <a:off x="2120760" y="1219320"/>
            <a:ext cx="5015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D394-4A61-49D5-AAB5-8E70DFE72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тат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5" descr=""/>
          <p:cNvPicPr/>
          <p:nvPr/>
        </p:nvPicPr>
        <p:blipFill>
          <a:blip r:embed="rId1"/>
          <a:stretch/>
        </p:blipFill>
        <p:spPr>
          <a:xfrm>
            <a:off x="1676520" y="1305000"/>
            <a:ext cx="601956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8BB0-0A07-43F8-91FA-B834A2E1F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синхроно сл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аци се уписују по најнижим битима магистрале подат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дају се страт бит, парност и стоп б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кон старт бита шаљу се прво бити најмање теж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говарајућом командом шаљу се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нак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се не шаље ништа, излаз остаје ви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CE1F-6BB1-4839-B4AB-E3681EE96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синхрони приј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ека се за силазну ивицу у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16х и 64х се провјерава опет на средини бита, да ли је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сте – наставља се приј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је – лажни старт, зауставља се приј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оркују се сви бити на средини интервала. Захтјева се само један стоп бит без обзира шта је програмир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је стоп бит 0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rame err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парност није ок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arity err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се прими још један знак прије читања претходно примљеног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VERRUN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0ECB-A9B4-4743-8EE1-51984293E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трујно појачање бип. т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дна од карактеристика транзис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реће се у границама 20 – 1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значава се са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ставља однос струје колектора и струје баз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дном од режима који за нас нису од интерес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Footer Placeholder 3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lide Number Placeholder 4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5F7C-7637-403C-A03F-70081C66D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синхрони прен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5" descr=""/>
          <p:cNvPicPr/>
          <p:nvPr/>
        </p:nvPicPr>
        <p:blipFill>
          <a:blip r:embed="rId1"/>
          <a:stretch/>
        </p:blipFill>
        <p:spPr>
          <a:xfrm>
            <a:off x="1801800" y="685800"/>
            <a:ext cx="4896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BF58-A3E0-4813-A1BF-1E0262789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инхроно сл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лаз 1 до уписа првог знака (синхронизацион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се упише податак и када 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T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игнал активан, шаљу се пода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нестане података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xEMPTY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је активан и шаљу се синхронизациони каракт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пис податка интерно ресету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xEMPT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5" descr=""/>
          <p:cNvPicPr/>
          <p:nvPr/>
        </p:nvPicPr>
        <p:blipFill>
          <a:blip r:embed="rId1"/>
          <a:stretch/>
        </p:blipFill>
        <p:spPr>
          <a:xfrm>
            <a:off x="1676520" y="4540320"/>
            <a:ext cx="54100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6610-9049-4498-9222-9512E95B3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инхрони пријем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нхрони пријем =&gt; следећа команда терба да уведе чип 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UN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рна синхрон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сваку границу бита тестира се садржај са првим синхронизационим зна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 има два, по препознавању првог упарује се и дру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 је синхронизација успјешна, излази се из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UNT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мода и генериш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YND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стерна синхрон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лазна ивиц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YNDET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ради исто што и препознавање синхронизационих к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YND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ра остати активан један период сигнала такта након чега се може укину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A84E-182F-4995-A8C7-E87CE2D77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инхрони пријем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рност и препуњавање се провјеравају стандардно, као код асинхроног прен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рност се провјерава чак и када је забрањен пријем (ван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UNT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м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 се синхронизација изгуби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треба да поново зад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UNT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м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да се сви бити у улазним баферима постављају на 1 да не дође до лажне синхронизац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25F8-0DBA-4414-9F72-BB092CA62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инхрони пријем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је синхронизација обављена и даље је активно коло које препознаје синхронизационе знак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ко два читања покажу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YND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о значи да је између примљен синхронизациони карак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65AF-A62E-46FC-83C9-D538D31E2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инхрони прен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4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55308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аралелни порт 825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3770-4509-480E-ABFC-71B8BBE4C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Основне карактерис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ралелна комуникац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 бидирекциона порта по 8 б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 мода р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енерисање контролних сигнала за синхронизацију комуникаци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07AE-DB9D-44A6-9BFD-D040EA3A9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ост улаз/из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оје само линије за пода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енутак промјене/читања података није прецизно дефинис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главном за очитавање неких сензора код којих је на излазу стално присутна нека вриједн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тенцијални проблем: читање у тренутку промјен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Picture 5" descr="Fig901"/>
          <p:cNvPicPr/>
          <p:nvPr/>
        </p:nvPicPr>
        <p:blipFill>
          <a:blip r:embed="rId1"/>
          <a:srcRect l="0" t="0" r="0" b="91728"/>
          <a:stretch/>
        </p:blipFill>
        <p:spPr>
          <a:xfrm>
            <a:off x="1523880" y="5334120"/>
            <a:ext cx="518184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8A45-5830-415C-88AF-87EB190C1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лаз/излаз са строб сигнал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ично као прост улаз излаз осим што се додатним сигналом говори када су подаци вали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алац мора бити увијек спреман да прихвати пода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5" descr="Fig901"/>
          <p:cNvPicPr/>
          <p:nvPr/>
        </p:nvPicPr>
        <p:blipFill>
          <a:blip r:embed="rId1"/>
          <a:srcRect l="0" t="14365" r="0" b="71238"/>
          <a:stretch/>
        </p:blipFill>
        <p:spPr>
          <a:xfrm>
            <a:off x="990720" y="4495680"/>
            <a:ext cx="66294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56F2-1771-4C8E-AB7E-4B26FB05B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сићење бип. т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л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нзистор директно полариса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* I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 том случају напони 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≈ 0.7 – 0.8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≈ 0.2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6FC0-19A3-493F-A45D-5D732E2FD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Једноструки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handshake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лаз/из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ајна страна постављ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ro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игнала – подаци су спремни на магистр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хватна страна потом постављ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ck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игнал – подаци су преуз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Picture 6" descr="Fig901"/>
          <p:cNvPicPr/>
          <p:nvPr/>
        </p:nvPicPr>
        <p:blipFill>
          <a:blip r:embed="rId1"/>
          <a:srcRect l="0" t="35972" r="0" b="39585"/>
          <a:stretch/>
        </p:blipFill>
        <p:spPr>
          <a:xfrm>
            <a:off x="762120" y="4267080"/>
            <a:ext cx="70866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0B8A-DACD-4FF3-B8D2-23837D3CE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воструки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handshake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улаз/из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ављањ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ck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гнала након постављањ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ro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значи да је прихватна страна спремна да прихвати подат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укидањ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ro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игнала подаци се читају са магистрале и укида се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7" descr="Fig901"/>
          <p:cNvPicPr/>
          <p:nvPr/>
        </p:nvPicPr>
        <p:blipFill>
          <a:blip r:embed="rId1"/>
          <a:srcRect l="0" t="67625" r="0" b="9357"/>
          <a:stretch/>
        </p:blipFill>
        <p:spPr>
          <a:xfrm>
            <a:off x="1295280" y="4343400"/>
            <a:ext cx="56390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1121-93F3-4A54-BBF4-8CB4E75C4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8255 спољ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6" descr=""/>
          <p:cNvPicPr/>
          <p:nvPr/>
        </p:nvPicPr>
        <p:blipFill>
          <a:blip r:embed="rId1"/>
          <a:stretch/>
        </p:blipFill>
        <p:spPr>
          <a:xfrm rot="16200000">
            <a:off x="2375640" y="-470880"/>
            <a:ext cx="4406760" cy="82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F0B1-05D1-4695-B7FA-476196C0C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8255 изну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5" descr=""/>
          <p:cNvPicPr/>
          <p:nvPr/>
        </p:nvPicPr>
        <p:blipFill>
          <a:blip r:embed="rId1"/>
          <a:stretch/>
        </p:blipFill>
        <p:spPr>
          <a:xfrm>
            <a:off x="1219320" y="1082520"/>
            <a:ext cx="670536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82D7-FBE8-4356-A730-AADEF2AD8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терне адре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5" descr=""/>
          <p:cNvPicPr/>
          <p:nvPr/>
        </p:nvPicPr>
        <p:blipFill>
          <a:blip r:embed="rId1"/>
          <a:stretch/>
        </p:blipFill>
        <p:spPr>
          <a:xfrm>
            <a:off x="1447920" y="2119320"/>
            <a:ext cx="62467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2422-03EB-4A2C-93E8-C759EE407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н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т 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лазни или изла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дови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д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д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д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0 – Порт 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лазни или изла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дови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д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д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0 – Порт Ц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 се подијелити на два 4-битна 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дови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д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нтролни сигн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41FD-E08E-4810-8F59-A671690BB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нтролна ријеч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8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3462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9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40388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EA4F-0814-481D-A5B4-D007C4616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нтролна ријеч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Picture 5" descr=""/>
          <p:cNvPicPr/>
          <p:nvPr/>
        </p:nvPicPr>
        <p:blipFill>
          <a:blip r:embed="rId1"/>
          <a:stretch/>
        </p:blipFill>
        <p:spPr>
          <a:xfrm>
            <a:off x="1905120" y="1755720"/>
            <a:ext cx="54864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7A1F-9810-4562-A2D2-CDE9494EB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дови 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д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д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д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1A8A-4802-46F4-9BF6-B3ADA3680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д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ст улаз/из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ављање портова а и/или б у мод 0 =&gt; одговарајућа половина ц порта је у моду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ва 8 – битна и два 4 – битна по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и може засебно бити улазни или изла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лаз се лечу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лаз се директно чита (без лечовањ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9A99-BF57-4CE5-8157-B249B6EAB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Шта је на слиц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= 100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R1 = 1 kOhm, R2 = 100 Ohm</a:t>
            </a: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cc = 5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2590920" y="2179800"/>
            <a:ext cx="30146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F2D6-A466-40D2-B866-6DE7F41C1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д 0 - у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Picture 5" descr=""/>
          <p:cNvPicPr/>
          <p:nvPr/>
        </p:nvPicPr>
        <p:blipFill>
          <a:blip r:embed="rId1"/>
          <a:stretch/>
        </p:blipFill>
        <p:spPr>
          <a:xfrm>
            <a:off x="457200" y="2620800"/>
            <a:ext cx="822960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E785-7F63-4F4B-A823-CCFC43161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д 0 - из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5" descr=""/>
          <p:cNvPicPr/>
          <p:nvPr/>
        </p:nvPicPr>
        <p:blipFill>
          <a:blip r:embed="rId1"/>
          <a:stretch/>
        </p:blipFill>
        <p:spPr>
          <a:xfrm>
            <a:off x="457200" y="2604960"/>
            <a:ext cx="8229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4D87-2015-4FB1-A0B6-582AB5BB5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д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rob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овани улаз/из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дноструки handshak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мо портови А и 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рт Ц – контролни сигн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улаз и излаз су лечов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FC82-F3B4-4D57-990E-FB135F22E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д 1 - у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B (Strob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низак ниво памти пода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BF (Input Buffer Full)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сок ниво – подаци су расположи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сте појавом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rob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сиг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сетује се растућом ивицом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сиг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за генерисање захтјева за прек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 н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B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BF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сетује овај сигн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сетује га силазна ивиц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сиг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звољава се и забрањује сетовањем/ресетовањем бита који одговар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7" descr=""/>
          <p:cNvPicPr/>
          <p:nvPr/>
        </p:nvPicPr>
        <p:blipFill>
          <a:blip r:embed="rId1"/>
          <a:stretch/>
        </p:blipFill>
        <p:spPr>
          <a:xfrm>
            <a:off x="4992840" y="1600200"/>
            <a:ext cx="334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82CA-EA28-43BA-B2B2-4F3E6785D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1 – улаз,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временски дијагр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6" name="Picture 5" descr=""/>
          <p:cNvPicPr/>
          <p:nvPr/>
        </p:nvPicPr>
        <p:blipFill>
          <a:blip r:embed="rId1"/>
          <a:stretch/>
        </p:blipFill>
        <p:spPr>
          <a:xfrm>
            <a:off x="457200" y="2238480"/>
            <a:ext cx="822960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F3DA-A022-4BDE-91B2-A185F27FC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д 1 - из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F (Output Buffer Full)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атак је расположив на изл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тује се растућом ивицом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сетује се док 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CK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CK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низак ниво потврђује да је податак прочит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R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енерисање захтјева за прек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сетује се узлазном ивицом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W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тује се када су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F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CK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 се забранити сетовањем/ресетовањем бита који одговар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CK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Picture 6" descr=""/>
          <p:cNvPicPr/>
          <p:nvPr/>
        </p:nvPicPr>
        <p:blipFill>
          <a:blip r:embed="rId1"/>
          <a:stretch/>
        </p:blipFill>
        <p:spPr>
          <a:xfrm>
            <a:off x="817560" y="1600200"/>
            <a:ext cx="331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7EBF-E2C7-4936-9591-F44914DA1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д 1 – из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5" descr=""/>
          <p:cNvPicPr/>
          <p:nvPr/>
        </p:nvPicPr>
        <p:blipFill>
          <a:blip r:embed="rId1"/>
          <a:stretch/>
        </p:blipFill>
        <p:spPr>
          <a:xfrm>
            <a:off x="457200" y="2363760"/>
            <a:ext cx="82296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45DA-41A6-4873-9608-AD98C187C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д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мо порт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дирекциони пор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рт Б може бити у моду 0 или моду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о порта Ц се користи за контролне сигна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улаз и излаз се лечу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906A-E6B8-4FE4-9F4D-4B7C37BC0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д 2 – контролни сигн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TR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 генерисање захтјева за прекид при улазу или изла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F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уписао подат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CK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 Уписани податак је прочитан са 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E 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дозвола/забрана прекида везаног за излаз (сет/ресет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K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 Памти податак са 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BF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 Постоји запамћен податак кој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треба да проч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E 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дозвола/забрана прекида везаног за улаз (сет/ресет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B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1275-EE0F-4FBF-A48E-9C8CC695B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д 2 – распоред контролних сигн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5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37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9D5C-8B57-407A-BE0C-4A0B1C2A9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Омов за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 *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порност кроз коју тече стру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уја која протиче кроз отп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д напона на отпорност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след протицања стру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3276360" y="4191120"/>
            <a:ext cx="1905120" cy="1815840"/>
            <a:chOff x="3276360" y="4191120"/>
            <a:chExt cx="1905120" cy="1815840"/>
          </a:xfrm>
        </p:grpSpPr>
        <p:sp>
          <p:nvSpPr>
            <p:cNvPr id="54" name="Line 6"/>
            <p:cNvSpPr/>
            <p:nvPr/>
          </p:nvSpPr>
          <p:spPr>
            <a:xfrm flipH="1">
              <a:off x="3276360" y="5181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7"/>
            <p:cNvSpPr/>
            <p:nvPr/>
          </p:nvSpPr>
          <p:spPr>
            <a:xfrm>
              <a:off x="4647960" y="51814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"/>
            <p:cNvSpPr/>
            <p:nvPr/>
          </p:nvSpPr>
          <p:spPr>
            <a:xfrm>
              <a:off x="3504960" y="44956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9"/>
            <p:cNvSpPr/>
            <p:nvPr/>
          </p:nvSpPr>
          <p:spPr>
            <a:xfrm>
              <a:off x="5181480" y="44956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0"/>
            <p:cNvSpPr/>
            <p:nvPr/>
          </p:nvSpPr>
          <p:spPr>
            <a:xfrm>
              <a:off x="3504960" y="46479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4190760" y="4191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2"/>
            <p:cNvSpPr/>
            <p:nvPr/>
          </p:nvSpPr>
          <p:spPr>
            <a:xfrm>
              <a:off x="3504960" y="42670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3581280" y="556236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4267080" y="56386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Straight Connector 17"/>
          <p:cNvSpPr/>
          <p:nvPr/>
        </p:nvSpPr>
        <p:spPr>
          <a:xfrm flipV="1">
            <a:off x="3885480" y="4952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9"/>
          <p:cNvSpPr/>
          <p:nvPr/>
        </p:nvSpPr>
        <p:spPr>
          <a:xfrm>
            <a:off x="4038480" y="495288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22"/>
          <p:cNvSpPr/>
          <p:nvPr/>
        </p:nvSpPr>
        <p:spPr>
          <a:xfrm flipV="1">
            <a:off x="4190400" y="4952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29"/>
          <p:cNvSpPr/>
          <p:nvPr/>
        </p:nvSpPr>
        <p:spPr>
          <a:xfrm>
            <a:off x="4419000" y="49528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30"/>
          <p:cNvSpPr/>
          <p:nvPr/>
        </p:nvSpPr>
        <p:spPr>
          <a:xfrm flipV="1">
            <a:off x="4572000" y="5181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3"/>
          <p:cNvSpPr/>
          <p:nvPr/>
        </p:nvSpPr>
        <p:spPr>
          <a:xfrm>
            <a:off x="441972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7403-2AE3-4056-B3AB-52A45C902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Шта је на слиц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4991040" y="1684440"/>
            <a:ext cx="3619440" cy="44352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685800" y="2514600"/>
            <a:ext cx="373392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а улазу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ранзистор закочен, јер да би струја текла у базу, напон база емитер би требао бити инверзно поларисан (погледати и објашњење на слиц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труја кроз отпорн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не те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Зато је и пад напона на отпорнику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Зато је на излаз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V=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57200" y="1600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= 100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R1 = 1 kOhm, R2 = 100 Ohm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Vcc = 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6963-7D9A-48EE-90EE-67FF632CE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д 2 – временски дијагр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5" descr=""/>
          <p:cNvPicPr/>
          <p:nvPr/>
        </p:nvPicPr>
        <p:blipFill>
          <a:blip r:embed="rId1"/>
          <a:stretch/>
        </p:blipFill>
        <p:spPr>
          <a:xfrm>
            <a:off x="979560" y="1600200"/>
            <a:ext cx="718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Footer Placeholder 6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lide Number Placeholder 7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DB45-8414-4D62-B245-9D0421FD1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Читање статуса порта 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ита се простим читањем порта 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сно: Формат стат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ле: Замјене одређених линија са у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Picture 7" descr=""/>
          <p:cNvPicPr/>
          <p:nvPr/>
        </p:nvPicPr>
        <p:blipFill>
          <a:blip r:embed="rId1"/>
          <a:stretch/>
        </p:blipFill>
        <p:spPr>
          <a:xfrm>
            <a:off x="457200" y="5257800"/>
            <a:ext cx="8229600" cy="104760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8" descr=""/>
          <p:cNvPicPr/>
          <p:nvPr/>
        </p:nvPicPr>
        <p:blipFill>
          <a:blip r:embed="rId2"/>
          <a:stretch/>
        </p:blipFill>
        <p:spPr>
          <a:xfrm>
            <a:off x="4689360" y="1295280"/>
            <a:ext cx="3668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астатура и диспле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МА контролер 82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44A0-6C5E-421F-ABDC-2B96CF5D0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етири независна канала за пренос података између меморије и перифери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гућност преноса меморија – мемор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ицијализација блока мемори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гућност каскадног прошире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ина преноса до 1.6МВ/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7ED8-8D25-42B9-94F9-DDECD87B7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8237А – спољ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Picture 5" descr=""/>
          <p:cNvPicPr/>
          <p:nvPr/>
        </p:nvPicPr>
        <p:blipFill>
          <a:blip r:embed="rId1"/>
          <a:stretch/>
        </p:blipFill>
        <p:spPr>
          <a:xfrm>
            <a:off x="2976480" y="1371600"/>
            <a:ext cx="304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50E1-3A97-4FEB-B9F7-1A518269B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8237А – изну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5" descr=""/>
          <p:cNvPicPr/>
          <p:nvPr/>
        </p:nvPicPr>
        <p:blipFill>
          <a:blip r:embed="rId1"/>
          <a:stretch/>
        </p:blipFill>
        <p:spPr>
          <a:xfrm>
            <a:off x="457200" y="1747800"/>
            <a:ext cx="82296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A665-D20D-4001-BE33-C68AF778F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н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 такт за интерне операц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тиче на брзину прено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8237А-5 може да ради на 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H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 активан са високим ниво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ише статусни, контролни, “захтјевни” и помоћни регист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ише први/задњи фф и сетује ма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кон ресета, уређај је 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ADY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гнал који је сличан истоименом сигналу на процесору 808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C297-52AF-469F-A58A-78AE8542E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н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RQ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нија по којој се процесору шаље захтј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 је одговарајући бит маске ресетован, присуство валидно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EQ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авља захтјев на ову лин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REQ0..3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синхроне улазне линије по којима периферија захтјева пренос подат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 фиксном приоритирању, 0 има највиши приорит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тиван ниво је програмаби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ле ресета активан ниво је висок ни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познавање захтјева сигнализира се по одговарајућој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CK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хтјев мора остати активан до потвр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 по ресету активне са ниским нивоом (програмабил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LD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сигнал по којем се од процесора прима дозвола за коришћење магистрале (процесор се одрекао магистрал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6CAA-D3CA-4C9C-8FC2-5A8B20BBD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н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0..7 – магистрала подат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нос података и дијела адресе пр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0..3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идирекционе линије (тростатичк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азне за вријем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циклуса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дресира регистар из којег чита/у који упису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лазне за вријеме активних циклус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кон добијања дозвол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– контролер избацује адресу са које чита/на коју пи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4..7 – излазне адресне линије (тростатичк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е се за вријеме активних цикл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572000" y="1681200"/>
            <a:ext cx="4087800" cy="4491000"/>
          </a:xfrm>
          <a:prstGeom prst="rect">
            <a:avLst/>
          </a:prstGeom>
          <a:ln w="0">
            <a:noFill/>
          </a:ln>
        </p:spPr>
      </p:pic>
      <p:sp>
        <p:nvSpPr>
          <p:cNvPr id="17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4A03-ED05-48B4-9DCD-3F0077297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Шта је на слиц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= 100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R1 = 1 kOhm, R2 = 100 Ohm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Vcc = 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685800" y="2362320"/>
            <a:ext cx="373392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а улаз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V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ранзистор у засићењ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ече струја кроз базу (сл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што је претпостављено да је транзистор у засићењу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ече струја и кроз отпорник (сл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што је струја отпорника мања од максималне струје коју транзистор може да пропусти кроз колектор када води, транзистор јесте у засићењу, па ј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.2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840A-5CBB-4FB5-A8D0-526186FC4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н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EN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гнал за укључивање лечева за виших 8 б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тиван ниво је висок ни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 се користити за забрану излаза других бафера прикључених на системску магистра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STB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гнал за памћење виших 8 бита адресе у спољним леч кол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MEMR – сигнал за читање из меморије п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M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тањ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носу из меморије у мемор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тиван са ниским ниво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W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сигнал за упис у меморију п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пис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носу из меморије у мемор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тиван са ниским ниво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5441-FB51-47E0-9224-5CEB45189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н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O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бидирекцио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лаз за вријем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dle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иклуса –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чита неки регист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лаз за вријеме активног циклуса –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чита податак из перифер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OW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бидирекцио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лаз за вријем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dle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иклуса –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писује у неки регист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лаз за вријеме активног циклуса –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писује податак у неку перифери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OP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бидирекциони сигнал активан са ниском ивиц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рна или екстерна активација завршава текућу операци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 бројач доброји (било који) генерише се сигн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Ц и бит маске се сету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случају аутоиницијализ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ит маске је неизмјењ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читава се базни регистар тог канала у текући регист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in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препоручено да се увијек веже на висок логички ни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13C8-154A-46E0-9D30-DC7BF32E4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гист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Picture 5" descr=""/>
          <p:cNvPicPr/>
          <p:nvPr/>
        </p:nvPicPr>
        <p:blipFill>
          <a:blip r:embed="rId1"/>
          <a:stretch/>
        </p:blipFill>
        <p:spPr>
          <a:xfrm>
            <a:off x="601560" y="1736640"/>
            <a:ext cx="79390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7B28-2AAF-4036-A366-8EEF9C6FB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Циклуси и ст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ва типа циклу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цикл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ивни цикл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и циклус састављен од ст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оји 7 ста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ако стање један читав период та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0E7E-E812-4931-8ADD-F128D02F3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т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неактивно ст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 нем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M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хтј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 бити у току програмир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прво стањ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ервисир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дат захтјев процесору за магистрал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звола још није враћ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1..4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ња у току циклуса преноса подат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носи меморија-периферија и периферија меморија се обављају директно (податак се не пролази кроз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онтроле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нос меморија-меморија захтјева да се стањ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1..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онове два п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ED4A-9655-4910-A2FB-3DF608D3C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цикл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ма захтјева -&gt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dle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икл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стоји се од неактивних стања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иван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неактива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HLD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=&gt; испуњен услов за програмирање (важи и з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0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пуњен услов за програмирање =&gt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риступа неком интерном регист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ети адресни бит – интерни фф (приступ вишем или нижем бајту ријеч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сетује се са главним брисањем, ресетом или посебном коман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6D65-1A89-4942-A6C9-A6B6F7293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ан цикл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тход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клус у којем стиже захтј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чиње активан циклус и поставља с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R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4 врсте активних циклуса (мод рада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јединачни прен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локовски прен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хтјевани прен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скадни м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6039-DA09-467F-9FEC-58F815AF8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јединачни прен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једну добијену дозволу, преноси се само један бај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крементира се бројач (после прено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дреса се инкрементира или декременира (после прено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лаз бројача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0 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FFF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генериш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C (Terminal Cou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тјев мора бити активан до прихватања дозв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захтјев остане активан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RQ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укида и потом генерише нови захтј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к по пријему нове дозволе може отпочети нови цикл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гарантовано могућ један машински циклус у корист процес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5EFE-03E4-4746-BD59-85B3F3CAA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локовски прен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хтјев мора остати активан до пријема дозволе (после се може укинут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носи се низ података д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0000-&gt;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FFF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љног сигнал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ко је у моду аутоиницијализације, при завршетку сервиса учитаће почетне вријед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63F2-5110-4278-BA77-D7B4788E3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хтјевани м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нос низа бајтова у складу са капацитетом перифери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REQ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мора пасти на 0 прије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да би се пренос привремено заустави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OP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ће завршити пре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 је сетована аутоиницијализација учитавају се почетне вриједности одговарајућих регист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TL – diode-transistor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410080" y="16002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8CDD-DB16-408F-9229-3C9D74F5C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5147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CB90-2A79-48E8-AB23-C391D40F6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аскадно везив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Picture 5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5638680" cy="4641840"/>
          </a:xfrm>
          <a:prstGeom prst="rect">
            <a:avLst/>
          </a:prstGeom>
          <a:ln w="0">
            <a:noFill/>
          </a:ln>
        </p:spPr>
      </p:pic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533520" y="4191120"/>
            <a:ext cx="4038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и излази су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актив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 да буде и више ниво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A6B6-3642-4021-9EB0-892F2843A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ипови тран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аки од прва 3 активна мода може да се користи у три типа трансфе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итањ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тање из мемор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пис у перифериј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пи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тање из перифер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пис у мемориј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риф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ма трансфера подата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 генеришу се контролни сигнали за читање и уп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енерише се адреса и реагује 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OP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B612-31C0-431E-A3BE-CC7BF44CA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нос меморија-мемор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е се канали 0 и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офтверски се поставља захтјев за канал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нал 0 се користи за чит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атак се кроз 4 стања прочита у привремени регист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нал 1 се користи за упис и бројање подат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нал 0 може бити програмиран да задржи исту адресу (иницијализација блока мемор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гује 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познаје 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E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ктиван без активног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B69D-466D-4F81-B3FC-391F8B7A4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утоиницијализ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кућа адреса се учитава из регистра базне адре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кући бројач се учитава из регистра базног броја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т маске се не одбацу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преноса меморија-меморија бројачи треба да буду и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случају прекидања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OP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треба генерисати у оба циклуса на магистр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B144-4032-47E9-8642-551A137D5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иорит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већи приоритет улаз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ва м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кс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отирање (управо опслужени добија најнижи приорит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 се један канал сервисира, остали се не гледај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а се заврши сервис, прво се чека д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LDA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дне на неактиван ниво, па се тек онда поставља наредни захтј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8D6B-B68A-4689-BBB6-D97BE9EB2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мпримовање врем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ко брзина компонената дозвољава, трансфер се може обавити у двије фаз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бацује се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3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S1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1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 дода само када је потребно промјенити виших осам бита адре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2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 мијења нижих 8 б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е обавља читање и упи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1D90-508A-40BB-B015-A0F1A1ADA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гист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кућа адреса и текући бројач – текуће сервисир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зна адреса и базни бројач – оригиналне вриједности, учитавају се заједно са претход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бројач треба уписати за 1 мањи број од броја ријечи које се прено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истар захтје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4 бита, за сваки канал по јед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 се сетовати/ресетовати софтверски (користи се само у случају блоковског мода преноса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сетују се с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C, EOP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 ресетовањ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 маскирају се и користе се даље за генерисање захтј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времени регистар садржи бајт из последљег трансфера меморија-меморија, осим ако је урађен ре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гистар захтј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Picture 9" descr=""/>
          <p:cNvPicPr/>
          <p:nvPr/>
        </p:nvPicPr>
        <p:blipFill>
          <a:blip r:embed="rId1"/>
          <a:stretch/>
        </p:blipFill>
        <p:spPr>
          <a:xfrm>
            <a:off x="1251000" y="2403360"/>
            <a:ext cx="6642000" cy="2919600"/>
          </a:xfrm>
          <a:prstGeom prst="rect">
            <a:avLst/>
          </a:prstGeom>
          <a:ln w="0">
            <a:noFill/>
          </a:ln>
        </p:spPr>
      </p:pic>
      <p:sp>
        <p:nvSpPr>
          <p:cNvPr id="1095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7C94-03FF-43E0-AEB0-C22EC3387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AA33-AC12-404A-B72C-D724538F9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омандни регист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114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8421-1CCE-4240-BB80-E1762935E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д регист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Picture 7" descr=""/>
          <p:cNvPicPr/>
          <p:nvPr/>
        </p:nvPicPr>
        <p:blipFill>
          <a:blip r:embed="rId1"/>
          <a:stretch/>
        </p:blipFill>
        <p:spPr>
          <a:xfrm>
            <a:off x="1905120" y="1360440"/>
            <a:ext cx="533376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TL – transistor-transistor log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38320" y="2133720"/>
            <a:ext cx="3048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64C4-C6B3-4DFF-9641-B8304DC87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57200" y="1582560"/>
            <a:ext cx="4800600" cy="39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Footer Placeholder 6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lide Number Placeholder 7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7B91-4D19-4A28-ACE7-992E427C5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гистар мас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7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38480" cy="16128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8" descr=""/>
          <p:cNvPicPr/>
          <p:nvPr/>
        </p:nvPicPr>
        <p:blipFill>
          <a:blip r:embed="rId2"/>
          <a:stretch/>
        </p:blipFill>
        <p:spPr>
          <a:xfrm>
            <a:off x="4726080" y="1600200"/>
            <a:ext cx="3881520" cy="218592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товање блокира одговарајући у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ОП сетује улаз осим у случају аутоиницијализац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сет сетује све б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тат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Бити 0-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етују се када одговарајући канал генерише ТЦ или екстерни ЕОП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ресетују се приликом читања статуса и ресе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Бити 4-7 су сетовани ако на одговарајућем каналу постоји захтје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Picture 5" descr=""/>
          <p:cNvPicPr/>
          <p:nvPr/>
        </p:nvPicPr>
        <p:blipFill>
          <a:blip r:embed="rId1"/>
          <a:stretch/>
        </p:blipFill>
        <p:spPr>
          <a:xfrm>
            <a:off x="1752480" y="3809880"/>
            <a:ext cx="5715000" cy="2681280"/>
          </a:xfrm>
          <a:prstGeom prst="rect">
            <a:avLst/>
          </a:prstGeom>
          <a:ln w="0">
            <a:noFill/>
          </a:ln>
        </p:spPr>
      </p:pic>
      <p:sp>
        <p:nvSpPr>
          <p:cNvPr id="111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3575-C38A-4B9A-821E-64F8E94F2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02C7-F3FD-4488-A36A-D3C2F649E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иступ регистр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Picture 5" descr=""/>
          <p:cNvPicPr/>
          <p:nvPr/>
        </p:nvPicPr>
        <p:blipFill>
          <a:blip r:embed="rId1"/>
          <a:stretch/>
        </p:blipFill>
        <p:spPr>
          <a:xfrm>
            <a:off x="1371600" y="2108160"/>
            <a:ext cx="640080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C6DA-5A58-4B07-8D1F-29766511A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офтверске коман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захтјевају пода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исање фф први/задњ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ра се издати прије уписа адресе и број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aster Clear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– исти ефекат као хардверски рес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исање регистра маске – брише све б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3B81-4C59-4CB5-A2A4-2737CDB5E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ман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5" descr=""/>
          <p:cNvPicPr/>
          <p:nvPr/>
        </p:nvPicPr>
        <p:blipFill>
          <a:blip r:embed="rId1"/>
          <a:stretch/>
        </p:blipFill>
        <p:spPr>
          <a:xfrm>
            <a:off x="457200" y="1859040"/>
            <a:ext cx="822960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F01B-4525-4AF8-9DE0-A284182DF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дресе регистара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1" name="Picture 5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207C-E37A-4018-BCC7-4991387FB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дресе регистара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Picture 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40496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везивање у сист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5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405480" cy="4883400"/>
          </a:xfrm>
          <a:prstGeom prst="rect">
            <a:avLst/>
          </a:prstGeom>
          <a:ln w="0">
            <a:noFill/>
          </a:ln>
        </p:spPr>
      </p:pic>
      <p:sp>
        <p:nvSpPr>
          <p:cNvPr id="1139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4B36-FA71-4917-AC3A-2FF187C78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TL са побољшаним излаз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410080" y="2209320"/>
            <a:ext cx="3276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A186-1999-4254-860D-60323758F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34160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ла са отвореним колекто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2880" y="1828440"/>
            <a:ext cx="37339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Излаз може да буде на ниском напонском нивоу или у стању високе импеданс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На излаз се везује отпорник ка </a:t>
            </a:r>
            <a:r>
              <a:rPr b="0" lang="sr-Latn-RS" sz="27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 како би се на излазу добио висок ниво умјесто стања високе импеданс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A266-82A2-44EC-B7DA-8C17B50EA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5752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зивање кола са О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A90D-0CDD-422D-8B09-D7DACDD27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25780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1B52-5261-42A1-B3A5-E2159348B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Шмитово ко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619440" cy="1447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114800" cy="3753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5159520" y="3124080"/>
            <a:ext cx="30607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тотранзис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BDCD-2F43-4E48-A50C-7126A26BA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1857600" cy="3676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1371600" y="35053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210" name="Bent Arrow 9" descr=""/>
          <p:cNvPicPr/>
          <p:nvPr/>
        </p:nvPicPr>
        <p:blipFill>
          <a:blip r:embed="rId3"/>
          <a:stretch/>
        </p:blipFill>
        <p:spPr>
          <a:xfrm>
            <a:off x="2036880" y="2120760"/>
            <a:ext cx="27795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1944-C298-49EB-B29E-BB904D7E1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MOS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ранзист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505320" cy="2603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5715000" y="2743200"/>
            <a:ext cx="20509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13DD-8FCB-4873-B2D6-8C04A7AC9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лупроводниц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тоје двије врст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 типа,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 тип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говарајућа својства посједују само у одређеном температурном опсе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ледица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мпературни опсег у којем чип може да ра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5E64-BD9C-4EF8-8B68-01E76BB15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NMOS AND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7F44-BFBA-4033-99F2-F543CB8A5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MO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3429000" y="1415880"/>
            <a:ext cx="284328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9818-64AB-44D7-A589-C1B1758A7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MO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873000" y="1828800"/>
            <a:ext cx="712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0F6F-C434-4D5E-8357-A5A47E3B0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арактеристике логичких 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озвољени напонски нивои на улаз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гарантовани напонски нивои на излаз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рујни капацитет на улаз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рујни капацитет на излаз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Фактор гранања на излаз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ашњење од улаза до изл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ријеме трајања узлазне и силазне ивиц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sr-Latn-R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RS" sz="3000" spc="-1" strike="noStrike">
                <a:solidFill>
                  <a:srgbClr val="000000"/>
                </a:solidFill>
                <a:latin typeface="Arial"/>
              </a:rPr>
              <a:t>hold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времена за секвенцијална логичка ко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CBEA-2E75-4F76-AAA4-9045276A5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еквенцијална логичка 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Лечев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Флип-флопов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Имплементације познате са ОРТ-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426708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84A4-4DA9-4799-B32F-81EDDCD6B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мор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220000" cy="462924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5"/>
          <p:cNvSpPr/>
          <p:nvPr/>
        </p:nvSpPr>
        <p:spPr>
          <a:xfrm>
            <a:off x="457200" y="2209680"/>
            <a:ext cx="1600200" cy="685800"/>
          </a:xfrm>
          <a:prstGeom prst="wedgeRectCallout">
            <a:avLst>
              <a:gd name="adj1" fmla="val 58430"/>
              <a:gd name="adj2" fmla="val 127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др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0.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1066680" y="5943600"/>
            <a:ext cx="1295640" cy="380880"/>
          </a:xfrm>
          <a:prstGeom prst="wedgeRectCallout">
            <a:avLst>
              <a:gd name="adj1" fmla="val 162009"/>
              <a:gd name="adj2" fmla="val -37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л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7691-FFA0-4172-B1D8-A2D8B7E2C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0595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AE15-D670-4AB3-A1A2-AB46FB19D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AL -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прошће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532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икропроцесор 80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231E-E32E-4A11-82EB-8F6901E8B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Основне карактерис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6-битни микро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оцесо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струкције за рад 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8-битним подаци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6-битним подац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6-битна магистрала подат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0-битна адресна магистр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BU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BU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временски мултиплекси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ни напон 5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еквенција сигнала такта 5-1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Hz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ак процесора у већини данашњих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чун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D550-79CF-4758-87C7-91505D5E8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лупроводнички елемен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мбиновањем полупроводника можемо доб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иполарни транзисто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S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нзисто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2593-83AB-4C12-95D0-0B7CF852F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аков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p004f1"/>
          <p:cNvPicPr/>
          <p:nvPr/>
        </p:nvPicPr>
        <p:blipFill>
          <a:blip r:embed="rId1"/>
          <a:stretch/>
        </p:blipFill>
        <p:spPr>
          <a:xfrm>
            <a:off x="2057400" y="12193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E932-5433-4DBE-ABFF-C14A0436C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MN/MX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п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гућност избора два мода ра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 – минимални мод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0 – максимални мод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иксно повезан прије покретања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F688-D24B-4FF3-A138-946668810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аксимални м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ругачије значење пинова 24-3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ебно коло генерише сигнале на контролној магистр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ложенији сис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ристи се углавном у мултипроцесорским систем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E585-8D0A-4DFA-A2D4-600D253C4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инимални мод рада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дноставниј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мо један процесор у сист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сор генерише сигнале контролене магистрале на пинима 24-3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2309-519F-42E0-86CF-3978F6534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инимални мод рада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5438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6684-19B8-46BA-AC04-790971082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игнал та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воугаони импулси фреквенције 5, 8 или 10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Hz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у зависности од варијанте чип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8284 – коло за генерисање сигнала такта и синхронизовање сигнал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set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022E-AAE2-48B1-901D-08BC192F0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с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исок логички ниво бар 4 периода та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цесор заустављен док је ресет актив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квенца иницијализовања </a:t>
            </a:r>
            <a:br>
              <a:rPr sz="3000"/>
            </a:b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10 периода такт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чиње силазном ивицом ресет сигна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артна адреса након ресета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FFFF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FBA9-2E5C-4546-B483-A397A0EF2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Циклуси на магистр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клус читањ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 мемориј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 перифер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клус упи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мемориј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перифериј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клус дохватања броја улаза у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V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A800-5C88-4D91-9F3A-2723AB6B0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Циклуси читања и уп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шински цикл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андардно 4 фаз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а по један период сигнала т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гуће уметање и произвољног броја стања чекања =&gt; прикључивање споријих перифер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CE2A-7949-45CC-AB28-C62BBA097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ременски дијаграми рел. сигнала у циклусу читањ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citanje"/>
          <p:cNvPicPr/>
          <p:nvPr/>
        </p:nvPicPr>
        <p:blipFill>
          <a:blip r:embed="rId1"/>
          <a:stretch/>
        </p:blipFill>
        <p:spPr>
          <a:xfrm>
            <a:off x="2514600" y="1676520"/>
            <a:ext cx="3913200" cy="452592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9"/>
          <p:cNvSpPr/>
          <p:nvPr/>
        </p:nvSpPr>
        <p:spPr>
          <a:xfrm>
            <a:off x="152280" y="3809880"/>
            <a:ext cx="2133720" cy="1295640"/>
          </a:xfrm>
          <a:prstGeom prst="wedgeRectCallout">
            <a:avLst>
              <a:gd name="adj1" fmla="val 98587"/>
              <a:gd name="adj2" fmla="val 59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 почетку циклуса поставља се смјер тока подат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152280" y="2743200"/>
            <a:ext cx="2133720" cy="990720"/>
          </a:xfrm>
          <a:prstGeom prst="wedgeRectCallout">
            <a:avLst>
              <a:gd name="adj1" fmla="val 84819"/>
              <a:gd name="adj2" fmla="val 16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првој фази поставља се адр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1"/>
          <p:cNvSpPr/>
          <p:nvPr/>
        </p:nvSpPr>
        <p:spPr>
          <a:xfrm>
            <a:off x="152280" y="1752480"/>
            <a:ext cx="2057400" cy="914400"/>
          </a:xfrm>
          <a:prstGeom prst="wedgeRectCallout">
            <a:avLst>
              <a:gd name="adj1" fmla="val 136032"/>
              <a:gd name="adj2" fmla="val 602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дреса се лечује пред крај прве ф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2"/>
          <p:cNvSpPr/>
          <p:nvPr/>
        </p:nvSpPr>
        <p:spPr>
          <a:xfrm>
            <a:off x="6781680" y="1981080"/>
            <a:ext cx="2210040" cy="990720"/>
          </a:xfrm>
          <a:prstGeom prst="wedgeRectCallout">
            <a:avLst>
              <a:gd name="adj1" fmla="val -156611"/>
              <a:gd name="adj2" fmla="val 113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ом се АД линије ослобађају за подат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3"/>
          <p:cNvSpPr/>
          <p:nvPr/>
        </p:nvSpPr>
        <p:spPr>
          <a:xfrm>
            <a:off x="6477120" y="5791320"/>
            <a:ext cx="2438280" cy="914400"/>
          </a:xfrm>
          <a:prstGeom prst="wedgeRectCallout">
            <a:avLst>
              <a:gd name="adj1" fmla="val -129361"/>
              <a:gd name="adj2" fmla="val -578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поставља се веза између АД линија и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гистр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4"/>
          <p:cNvSpPr/>
          <p:nvPr/>
        </p:nvSpPr>
        <p:spPr>
          <a:xfrm>
            <a:off x="6781680" y="2971800"/>
            <a:ext cx="2210040" cy="1219320"/>
          </a:xfrm>
          <a:prstGeom prst="wedgeRectCallout">
            <a:avLst>
              <a:gd name="adj1" fmla="val -148851"/>
              <a:gd name="adj2" fmla="val 555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крај друге фазе поставља се контролни сигнал за чи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5"/>
          <p:cNvSpPr/>
          <p:nvPr/>
        </p:nvSpPr>
        <p:spPr>
          <a:xfrm>
            <a:off x="6781680" y="4191120"/>
            <a:ext cx="2210040" cy="1066680"/>
          </a:xfrm>
          <a:prstGeom prst="wedgeRectCallout">
            <a:avLst>
              <a:gd name="adj1" fmla="val -145115"/>
              <a:gd name="adj2" fmla="val 30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 почетку треће фазе провјерава с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сигна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6553080" y="1371600"/>
            <a:ext cx="2362320" cy="1523880"/>
          </a:xfrm>
          <a:prstGeom prst="wedgeRectCallout">
            <a:avLst>
              <a:gd name="adj1" fmla="val -98990"/>
              <a:gd name="adj2" fmla="val 16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што ј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био 0 на почетку фазе 3, умеће се бар једно стање чек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7"/>
          <p:cNvSpPr/>
          <p:nvPr/>
        </p:nvSpPr>
        <p:spPr>
          <a:xfrm>
            <a:off x="6400800" y="2666880"/>
            <a:ext cx="1981080" cy="2362320"/>
          </a:xfrm>
          <a:prstGeom prst="wedgeRectCallout">
            <a:avLst>
              <a:gd name="adj1" fmla="val -85657"/>
              <a:gd name="adj2" fmla="val -83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што ј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враћен на 0 прије краја стања чекања, након једног стања чекања прелази се на фазу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D395-AAED-4568-A230-C2C4FE4E3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и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 нормалним условима ра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ректно поларисана – провод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верзно поларисана – закоч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209680" y="3276720"/>
            <a:ext cx="14479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-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657600" y="3276720"/>
            <a:ext cx="457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4114800" y="3276720"/>
            <a:ext cx="457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572000" y="3276720"/>
            <a:ext cx="14479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-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66680" y="3733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6324480" y="3733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581280" y="63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2819520" y="4572000"/>
            <a:ext cx="2666880" cy="1815840"/>
            <a:chOff x="2819520" y="4572000"/>
            <a:chExt cx="2666880" cy="1815840"/>
          </a:xfrm>
        </p:grpSpPr>
        <p:sp>
          <p:nvSpPr>
            <p:cNvPr id="89" name="Line 12"/>
            <p:cNvSpPr/>
            <p:nvPr/>
          </p:nvSpPr>
          <p:spPr>
            <a:xfrm>
              <a:off x="2819520" y="5562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4343400" y="5562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4"/>
            <p:cNvSpPr/>
            <p:nvPr/>
          </p:nvSpPr>
          <p:spPr>
            <a:xfrm>
              <a:off x="3962520" y="53337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5"/>
            <p:cNvSpPr/>
            <p:nvPr/>
          </p:nvSpPr>
          <p:spPr>
            <a:xfrm>
              <a:off x="3962520" y="5333760"/>
              <a:ext cx="3808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6"/>
            <p:cNvSpPr/>
            <p:nvPr/>
          </p:nvSpPr>
          <p:spPr>
            <a:xfrm flipV="1">
              <a:off x="3962520" y="5562360"/>
              <a:ext cx="3808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7"/>
            <p:cNvSpPr/>
            <p:nvPr/>
          </p:nvSpPr>
          <p:spPr>
            <a:xfrm>
              <a:off x="4343400" y="53337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>
              <a:off x="3276720" y="4876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>
              <a:off x="4952880" y="4876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0"/>
            <p:cNvSpPr/>
            <p:nvPr/>
          </p:nvSpPr>
          <p:spPr>
            <a:xfrm>
              <a:off x="3276720" y="502884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1"/>
            <p:cNvSpPr/>
            <p:nvPr/>
          </p:nvSpPr>
          <p:spPr>
            <a:xfrm>
              <a:off x="3962520" y="4572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2"/>
            <p:cNvSpPr/>
            <p:nvPr/>
          </p:nvSpPr>
          <p:spPr>
            <a:xfrm>
              <a:off x="3276720" y="46479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3"/>
            <p:cNvSpPr/>
            <p:nvPr/>
          </p:nvSpPr>
          <p:spPr>
            <a:xfrm>
              <a:off x="3352680" y="594324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4"/>
            <p:cNvSpPr/>
            <p:nvPr/>
          </p:nvSpPr>
          <p:spPr>
            <a:xfrm>
              <a:off x="4038480" y="60195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5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6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C374-5621-44A7-AF4F-A9D775E74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6" descr="upis"/>
          <p:cNvPicPr/>
          <p:nvPr/>
        </p:nvPicPr>
        <p:blipFill>
          <a:blip r:embed="rId1"/>
          <a:stretch/>
        </p:blipFill>
        <p:spPr>
          <a:xfrm>
            <a:off x="2590920" y="1600200"/>
            <a:ext cx="3906720" cy="45259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ременски дијаграми рел. сигнала у циклусу уп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152280" y="3809880"/>
            <a:ext cx="2133720" cy="1295640"/>
          </a:xfrm>
          <a:prstGeom prst="wedgeRectCallout">
            <a:avLst>
              <a:gd name="adj1" fmla="val 101935"/>
              <a:gd name="adj2" fmla="val 330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 почетку циклуса поставља се смјер тока подат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152280" y="2743200"/>
            <a:ext cx="2133720" cy="990720"/>
          </a:xfrm>
          <a:prstGeom prst="wedgeRectCallout">
            <a:avLst>
              <a:gd name="adj1" fmla="val 84819"/>
              <a:gd name="adj2" fmla="val 16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првој фази поставља се адр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152280" y="1752480"/>
            <a:ext cx="2057400" cy="914400"/>
          </a:xfrm>
          <a:prstGeom prst="wedgeRectCallout">
            <a:avLst>
              <a:gd name="adj1" fmla="val 136032"/>
              <a:gd name="adj2" fmla="val 602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дреса се лечује пред крај прве ф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6781680" y="1981080"/>
            <a:ext cx="2133720" cy="1219320"/>
          </a:xfrm>
          <a:prstGeom prst="wedgeRectCallout">
            <a:avLst>
              <a:gd name="adj1" fmla="val -167189"/>
              <a:gd name="adj2" fmla="val 854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ом се АД линије ослобађају постављају за подац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8"/>
          <p:cNvSpPr/>
          <p:nvPr/>
        </p:nvSpPr>
        <p:spPr>
          <a:xfrm>
            <a:off x="6477120" y="5791320"/>
            <a:ext cx="2438280" cy="914400"/>
          </a:xfrm>
          <a:prstGeom prst="wedgeRectCallout">
            <a:avLst>
              <a:gd name="adj1" fmla="val -146680"/>
              <a:gd name="adj2" fmla="val -105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поставља се веза између АД линија и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гистр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6781680" y="2971800"/>
            <a:ext cx="2210040" cy="1219320"/>
          </a:xfrm>
          <a:prstGeom prst="wedgeRectCallout">
            <a:avLst>
              <a:gd name="adj1" fmla="val -164222"/>
              <a:gd name="adj2" fmla="val 1811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другој фази поставља се контролни сигнал за уп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6781680" y="4724280"/>
            <a:ext cx="2210040" cy="990720"/>
          </a:xfrm>
          <a:prstGeom prst="wedgeRectCallout">
            <a:avLst>
              <a:gd name="adj1" fmla="val -149490"/>
              <a:gd name="adj2" fmla="val -845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 почетку треће фазе провјерава с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сигн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6553080" y="1371600"/>
            <a:ext cx="2362320" cy="1523880"/>
          </a:xfrm>
          <a:prstGeom prst="wedgeRectCallout">
            <a:avLst>
              <a:gd name="adj1" fmla="val -98990"/>
              <a:gd name="adj2" fmla="val 16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што ј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био 0 на почетку фазе 3, умеће се бар једно стање чек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6400800" y="2666880"/>
            <a:ext cx="1981080" cy="2362320"/>
          </a:xfrm>
          <a:prstGeom prst="wedgeRectCallout">
            <a:avLst>
              <a:gd name="adj1" fmla="val -85657"/>
              <a:gd name="adj2" fmla="val -83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што ј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враћен на 0 прије краја стања чекања, након једног стања чекања прелази се на фазу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CBCF-D354-4AF4-8844-2F6DE7097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Опис сигнала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L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– Силазна ивица сигнализира тренутак када треба запамтити адр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T/R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– Смјер тока подата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 – од процесо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0 – ка процес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– 0 – АД линије се користе за податке и могуће их је повезати н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магистр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ECCE-5072-4233-885B-3790E2978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Опис сигнала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– Контролни сигнал за читањ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WR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– Контролни сигнал за упи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/I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– Избор адресног просто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0 – меморијс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 – улазно/изла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авља се на почетку циклуса и не мијења до краја истог цикл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72B0-D921-4FD2-B410-6A3D42F19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тања чек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ње у којем се ништа не мијења у односу на фазу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ADY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гнал којим се сигнализира да је периферија/меморија спремна за пренос подат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иксно вријеме приступа –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игнал се генерише на основу адре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менљиво време приступа –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е може генерисати на основу сигнала потврде од периферије или на основу максималног времена при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E1DD-8078-4923-84BA-393044825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Генерисање сигнала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сор проверава овај сигнал на силазну ивицу почетка 3. фазе и на крају сваког стања чека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синхронизацију се користи коло 8284 (дато на наредном слајд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89B9-0337-4E50-86AA-EAA2D69D8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82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6" descr=""/>
          <p:cNvPicPr/>
          <p:nvPr/>
        </p:nvPicPr>
        <p:blipFill>
          <a:blip r:embed="rId1"/>
          <a:stretch/>
        </p:blipFill>
        <p:spPr>
          <a:xfrm>
            <a:off x="950760" y="1770120"/>
            <a:ext cx="7240680" cy="418608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7"/>
          <p:cNvSpPr/>
          <p:nvPr/>
        </p:nvSpPr>
        <p:spPr>
          <a:xfrm>
            <a:off x="2133720" y="1295280"/>
            <a:ext cx="1828800" cy="457200"/>
          </a:xfrm>
          <a:prstGeom prst="wedgeRectCallout">
            <a:avLst>
              <a:gd name="adj1" fmla="val 108421"/>
              <a:gd name="adj2" fmla="val 105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митово к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8"/>
          <p:cNvSpPr/>
          <p:nvPr/>
        </p:nvSpPr>
        <p:spPr>
          <a:xfrm>
            <a:off x="152280" y="2971800"/>
            <a:ext cx="1219320" cy="609480"/>
          </a:xfrm>
          <a:prstGeom prst="wedgeRectCallout">
            <a:avLst>
              <a:gd name="adj1" fmla="val 62370"/>
              <a:gd name="adj2" fmla="val 95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терни та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9"/>
          <p:cNvSpPr/>
          <p:nvPr/>
        </p:nvSpPr>
        <p:spPr>
          <a:xfrm>
            <a:off x="2133720" y="6019920"/>
            <a:ext cx="3657600" cy="609480"/>
          </a:xfrm>
          <a:prstGeom prst="wedgeRectCallout">
            <a:avLst>
              <a:gd name="adj1" fmla="val -69273"/>
              <a:gd name="adj2" fmla="val -84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 врсте синхронизациј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ADY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г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0"/>
          <p:cNvSpPr/>
          <p:nvPr/>
        </p:nvSpPr>
        <p:spPr>
          <a:xfrm>
            <a:off x="6095880" y="5867280"/>
            <a:ext cx="2667240" cy="990720"/>
          </a:xfrm>
          <a:prstGeom prst="wedgeRectCallout">
            <a:avLst>
              <a:gd name="adj1" fmla="val -25111"/>
              <a:gd name="adj2" fmla="val -113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мти се мало прије силазне ивице излазног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сиг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D438-363C-4B67-A7B5-7FE0EEB0A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инхронизација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READY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игн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азна ивиц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мти се пред силазну ивицу сигнала такта (крај друге фазе машинског циклус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лазна ивиц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нхронизује се у један или два ниво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ан ниво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гнал се може генерисати до пред крај последњег жељеног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тања, након чега се наставља са Т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ва нивоа: прво се интерно памти на узлазну ивицу последњег жељеног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тања, а на силазну ивицу краја последњег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тања се генериш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игнал, након чега се наставља са Т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4AA6-D6BC-44DB-9CD2-A76FE9EC6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дресирање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дресибилна јединица је бај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јеч се формира од два сусједна бај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ајт веће тежине на вишој адрес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ајт мање тежине на нижој адрес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дреса ријечи је адреса бајта мање тежи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и принцип важи и за двоструку рије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D034-7271-48B7-AF6E-4D3ECF578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дресирање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леди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дресе бајтова ријечи на парној адреси разликују се само у последњем б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дресе бајтова ријечи са непарне адресе разликују се поред последњег бита, и у бар још једном б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во је разлог за спорији пренос ријечи са непарне адре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8CB1-054D-48C9-BD86-23729820F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еличина опера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ржани су пренос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ог бајта са парне или непарне адресе у једном машинском циклус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е ријечи са парне адресе у једном машинском циклус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е ријечи са непарне адресе у два машинска цикл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E5AE-E4AF-41A5-954B-0473BC57B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иода из нашег уг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овод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д условом да је директно поларисана с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 = Vd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деалан напонски генера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Закочен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д условом да 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иректно поларисана (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&lt; U &lt;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V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ли</a:t>
            </a:r>
            <a:br>
              <a:rPr sz="2200"/>
            </a:b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ема напона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=0V</a:t>
            </a:r>
            <a:br>
              <a:rPr sz="2200"/>
            </a:b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верзно поларисан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(U &lt; 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творена в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Напомена: овакав модел важи само за релативно мале напоне на диоди и мале струје кроз диоду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CD20-DFDA-40C8-BA20-C612DD5FF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лекциони сигнали – А0 и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B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A0,BHE)=(0,0) 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јеч са парне адресе по линијама 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5-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A0,BHE)=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ајт са парне адресе по линијама 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7-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A0,BHE)=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0) 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ајт са непарне адресе по линијама 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5-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A0,BHE)=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мбинација која се не појављу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oter Placeholder 3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4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BF2E-A981-45CB-881C-753361CA8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моријске бан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9528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ooter Placeholder 3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942F-3C36-43FE-9852-7803BB0A3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нос бај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28260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5"/>
          <p:cNvSpPr/>
          <p:nvPr/>
        </p:nvSpPr>
        <p:spPr>
          <a:xfrm>
            <a:off x="609480" y="4800600"/>
            <a:ext cx="3505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 нижи бај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H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1 , A0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на адрес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5257800" y="4800600"/>
            <a:ext cx="2743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 виши бај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H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 , A0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арна адрес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1450-4384-461A-8F6E-56ABEBD23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ијеч са парне адре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2057400" y="1852560"/>
            <a:ext cx="5029200" cy="31528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"/>
          <p:cNvSpPr/>
          <p:nvPr/>
        </p:nvSpPr>
        <p:spPr>
          <a:xfrm>
            <a:off x="2133720" y="54864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H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, A0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16B4-65D3-4F9F-9225-CA0638E73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ијеч са непарне адре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181480" cy="40608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4"/>
          <p:cNvSpPr/>
          <p:nvPr/>
        </p:nvSpPr>
        <p:spPr>
          <a:xfrm>
            <a:off x="2057400" y="55627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носи се прво бајт са непарне адресе, па  бајт са парне адре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053B-B3BA-4FAF-8989-935C1709A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везивање у сист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F684-7EC3-47D4-8357-5B9F6A506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тек – понављање украт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оји хардверска подршка за ст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казује на врх стека (последњу заузету локациј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сте ка нижим адрес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ди са ријеч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новити прослеђивање параметара преко стека (СП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2A9A-C626-48B8-A74E-FB29AF5BD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дресни мод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посредно адреси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гистарс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моријско дирек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гистарско индирек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гистарско индиректно са помјерај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азно индек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азно индексно са помјерај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сјетити се детаља (С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6650-D4CA-4972-9262-2277799C6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дат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држај меморијске локације (бајта) једнак је вриједности нижег бајта адресе те локациј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држај регистара процесора 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(IP)=200h, (CS)=1000h, (DS)=0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, (SS)=00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, (ES)=00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h, (SI)=1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, (BX)=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, (CX)=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, (DX)=6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, (SP)=1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, (BP)=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дат је следећи сегмент кода који почиње од адре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CS:IP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датим линијама уписати вриједности које се налазе у регистру АХ након извршаванја инструкције у истом реду? Сматрати да се инструкције извршавају једна за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p    AX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S: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dd    AX, [BX]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________     DS: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dd    AL, [BP][SI]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________     SS:BP+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dd    AX, [BX+8][SI]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________     DS:BX+8+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0B22-6875-4F0B-B447-31F12F0B8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киди у 80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ољ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скирајућ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маскирајућ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нутарњ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офтверски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i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јељење нул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кид после сваке инструкциј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кид услед прекорач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мјер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директно поларисане ди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0A48-B6F0-47B2-ACD1-914605010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114800" y="144792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П: диода во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1. Онда је напон на диоди 0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2. Па је зато и напон на отпорнику 4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3. Што доводи до струје кроз отпорн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. Та иста струја тече и кроз ди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а је ПП била да диода не во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1. Пад напона на диоди мањи од 0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2. Што значи да је напон на отпорнику већи од 4.3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3. То би значило да кроз отпорник тече стру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. А то је у контрадикцији са чињеницом да је диода зако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1"/>
          <a:stretch/>
        </p:blipFill>
        <p:spPr>
          <a:xfrm>
            <a:off x="330120" y="1371600"/>
            <a:ext cx="36324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4D44-40EC-468C-8F43-E77A4E48B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киди у 80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кторис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абела почиње од адресе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а 256 улаза, сваки по двије риј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вих пет фиксно додјељени унутарњим (осим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 и спољном немаскирајућем прек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31A6-3635-4E9A-B405-32AD25962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nterrupt Vecto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Fig802"/>
          <p:cNvPicPr/>
          <p:nvPr/>
        </p:nvPicPr>
        <p:blipFill>
          <a:blip r:embed="rId1"/>
          <a:stretch/>
        </p:blipFill>
        <p:spPr>
          <a:xfrm>
            <a:off x="1600200" y="1752480"/>
            <a:ext cx="59054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AB02-FB65-4D63-BDA3-BDC57E608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Опслуживање прек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5" descr="Fig801"/>
          <p:cNvPicPr/>
          <p:nvPr/>
        </p:nvPicPr>
        <p:blipFill>
          <a:blip r:embed="rId1"/>
          <a:stretch/>
        </p:blipFill>
        <p:spPr>
          <a:xfrm>
            <a:off x="1066680" y="1832040"/>
            <a:ext cx="670572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BDCA-B10C-4C44-A3A2-3C8D8C071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охватање адресе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фиксне увијек исти улаз међу првих п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 у инструкцији садржи број улаза 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V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множи се са 4 и то је адреса адресе прекидне рут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скирајући – циклусом дохватања броја улаза 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V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множи се са 4 и то је адреса адресе прекидне рут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207A-13B8-4827-967E-6095274C9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ијељење нул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лаз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олико дође до дијељења нулом, прекид се не може спријечити =&gt; мора постојати прекидна рут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чешће се само постави флег да се означи да је дошло до гре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програму би после сваког дијељења требало провјерити овај фл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ће и да рутина буде празна, а да се прије дијељења провјери дјелила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F9C5-A042-4E34-849E-E1B12312A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екид после сваке инструк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лаз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лужи да омогући извршавање програма инструкцију по инструкцију у циљу отклањања греш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овај режим се улази постављањем Т фле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ко је обезбјеђено да се прекид не извршава рекурзи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2E3B-F395-437D-8877-1EB7E68F5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стављање Т фле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 постоје инструкције за постављање и брисањ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фл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ављ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USF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SW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ст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V BP, SP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 WORD PTR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P+0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0100H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вљ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F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P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SW sa ste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исањ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WORD PTR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P+0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0FEFF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F4FB-20F6-4E87-8A9D-DAEEFCD17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емаскирајући преки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лаз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MI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ин за прихватање захтјева за овим прекидом. Окида на узлазну ив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је их могуће забран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јери коришћењ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текција нестанка напајања, и “чување” система док је на помоћном напај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текција да је/су неки тастер/и притисн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EFFD-BE54-4A21-BF27-00A1DA383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Break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лаз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случају да се наиђе на ову инструкцију, прекида се извршавање програма и скаче се на прекидну рут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акође помоћ при тестирању прогр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77D1-0D7F-4156-960F-9C3DCC197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корач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рада прекорачења могућа на два начи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ump If Overflow (JO) adresa_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d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_za_obradu_greš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ije prek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terrupt On Overflow (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ek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ako je OF=0, instrukcija se izvršava kao N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ље користити прекид јер је доступан са сваког мјеста у коду и сачуваће контекст извршав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мјер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 инверзно поларисане ди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89B0-5D2F-478C-8CFD-A62162385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114800" y="144792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П: диода во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1. Онда је напон на диоди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-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 (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у складу са ознаком на слиц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2. Па је зато напон на отпорнику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3. Што доводи до струје кроз отпорник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 наниж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4. Та иста струја би требала да тече и кроз диоду у супротном смјеру од могућег смјера струје кроз диод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а је ПП била да диода не вод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1. Нема струје кроз отпорник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2. Што значи да је напон на отпорнику нул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3. То би значило да је диода инверзно полариса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4. Инверсно поларисана диода са 5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је закочен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55932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0FCB-63B1-4ECC-96A2-F6C8B1D66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струкција којом се прекидна рутина позива “као” потпрог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ој  улаза у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VT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 прослеђује као једини операнд овој инструкциј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ично се користи да би се кроз прекидне рутине пружиле разне системске услуге при имплементацији оперативних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2523-CF45-42CB-88DC-86B6E4FF3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аскирајући преки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R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– улазни пин за слање захтј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јетљив на нив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ктиван са високим ниво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же да се забрани брисањем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ле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се прихвати, шаљу се два негативна импулса да би се прихватио број ул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гу ли се увијек угнијездити два маскирајућа преки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E431-8BEF-4C12-8E5B-E99A80645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Циклус дохватања броја ул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"/>
          <p:cNvPicPr/>
          <p:nvPr/>
        </p:nvPicPr>
        <p:blipFill>
          <a:blip r:embed="rId1"/>
          <a:stretch/>
        </p:blipFill>
        <p:spPr>
          <a:xfrm>
            <a:off x="457200" y="1824120"/>
            <a:ext cx="822960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F461-6E92-4120-9ED9-835E7CFA1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иоритети прек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 највишег ка најниж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јељење нулом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T, IN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кид после сваке инструкц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нтролер прекида 8259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CA84-CBB7-4F45-AE3C-A20411F7E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ш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д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лазна линија захтјева за прекид у процес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есто потребно више различитих преки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гућ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офтверски – прозивање 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olling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ланчавање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isy-chai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тролер прекида 8259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A3A3-AADA-40C4-92EE-73D59F843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8259а-основне карактерис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8 улазних линија за прек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скадно повезивање =&gt; до 64 улаза за прекид на овај начин (без додатног хард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етири м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ully nested mo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tating priority mo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ecial mask mo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led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скирање појединачних у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oter Placeholder 3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44F8-485A-49C2-AE6C-FE2ADAFF9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езивање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једног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8259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3" descr="Fig814"/>
          <p:cNvPicPr/>
          <p:nvPr/>
        </p:nvPicPr>
        <p:blipFill>
          <a:blip r:embed="rId1"/>
          <a:srcRect l="49458" t="3857" r="26999" b="66668"/>
          <a:stretch/>
        </p:blipFill>
        <p:spPr>
          <a:xfrm>
            <a:off x="3132000" y="2276640"/>
            <a:ext cx="3005280" cy="374328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4"/>
          <p:cNvSpPr/>
          <p:nvPr/>
        </p:nvSpPr>
        <p:spPr>
          <a:xfrm>
            <a:off x="2987640" y="3357720"/>
            <a:ext cx="71640" cy="158400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6156360" y="2852640"/>
            <a:ext cx="71280" cy="1656000"/>
          </a:xfrm>
          <a:custGeom>
            <a:avLst/>
            <a:gdLst>
              <a:gd name="textAreaLeft" fmla="*/ 0 w 71280"/>
              <a:gd name="textAreaRight" fmla="*/ 25560 w 7128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6"/>
          <p:cNvSpPr/>
          <p:nvPr/>
        </p:nvSpPr>
        <p:spPr>
          <a:xfrm>
            <a:off x="2987640" y="5084640"/>
            <a:ext cx="71640" cy="576360"/>
          </a:xfrm>
          <a:custGeom>
            <a:avLst/>
            <a:gdLst>
              <a:gd name="textAreaLeft" fmla="*/ 45720 w 71640"/>
              <a:gd name="textAreaRight" fmla="*/ 72000 w 71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7"/>
          <p:cNvSpPr/>
          <p:nvPr/>
        </p:nvSpPr>
        <p:spPr>
          <a:xfrm>
            <a:off x="3635280" y="2349360"/>
            <a:ext cx="720720" cy="57492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304920" y="22096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996633"/>
                </a:solidFill>
                <a:latin typeface="Arial"/>
              </a:rPr>
              <a:t>Двије интерне адресе – НЕ ПОВЕЗИВАТИ на А0 магистрал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2700360" y="2852640"/>
            <a:ext cx="431640" cy="289080"/>
          </a:xfrm>
          <a:prstGeom prst="line">
            <a:avLst/>
          </a:prstGeom>
          <a:ln w="9360">
            <a:solidFill>
              <a:srgbClr val="9966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380880" y="327672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 за податке и враћање броја улаза у ИВТ =&gt; везују се увијек на нижих осам линија магистрале података! Зашто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304920" y="50292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808080"/>
                </a:solidFill>
                <a:latin typeface="Arial"/>
              </a:rPr>
              <a:t>Везују се на системск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D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WR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NTA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808080"/>
                </a:solidFill>
                <a:latin typeface="Arial"/>
              </a:rPr>
              <a:t>линиј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6095880" y="56386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лазна линија по којој 8259А шаље захтјев даљ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3"/>
          <p:cNvSpPr/>
          <p:nvPr/>
        </p:nvSpPr>
        <p:spPr>
          <a:xfrm>
            <a:off x="6477120" y="30481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6600"/>
                </a:solidFill>
                <a:latin typeface="Arial"/>
              </a:rPr>
              <a:t>Улазне линије за прихватање захтјева за прек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3780000" y="198288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9900"/>
                </a:solidFill>
                <a:latin typeface="Arial"/>
              </a:rPr>
              <a:t>master/slave </a:t>
            </a:r>
            <a:r>
              <a:rPr b="0" lang="sr-CS" sz="1800" spc="-1" strike="noStrike">
                <a:solidFill>
                  <a:srgbClr val="ff9900"/>
                </a:solidFill>
                <a:latin typeface="Arial"/>
              </a:rPr>
              <a:t>или за контролу баф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5"/>
          <p:cNvSpPr/>
          <p:nvPr/>
        </p:nvSpPr>
        <p:spPr>
          <a:xfrm>
            <a:off x="6156360" y="4724280"/>
            <a:ext cx="71280" cy="649440"/>
          </a:xfrm>
          <a:custGeom>
            <a:avLst/>
            <a:gdLst>
              <a:gd name="textAreaLeft" fmla="*/ 0 w 71280"/>
              <a:gd name="textAreaRight" fmla="*/ 25560 w 712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6"/>
          <p:cNvSpPr/>
          <p:nvPr/>
        </p:nvSpPr>
        <p:spPr>
          <a:xfrm>
            <a:off x="6324480" y="441972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990099"/>
                </a:solidFill>
                <a:latin typeface="Arial"/>
              </a:rPr>
              <a:t>Линије за адресирање славе-а у систему гдје има више од једног</a:t>
            </a:r>
            <a:r>
              <a:rPr b="0" lang="sr-Latn-CS" sz="1800" spc="-1" strike="noStrike">
                <a:solidFill>
                  <a:srgbClr val="990099"/>
                </a:solidFill>
                <a:latin typeface="Arial"/>
              </a:rPr>
              <a:t> 8259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777C-B7AE-4C27-846F-1259414A5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аскадно везивање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8259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49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је довољ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8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аза =&g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ан масте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 сваки улаз мастера мож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ректно линија захтјева за преки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дан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lave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8259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сваки улаз по један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lave 8259A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64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ин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ster-a =&gt; IN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 80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нов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0, CAS1 i CAS2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 излазни и генеришу адресу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lave-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м се обраћ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н везан на висок ни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 Slav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=&gt; одговарајућ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ин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нов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0, CAS1 i CAS2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de kao ul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н везан на низак ни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N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86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све 8259А у систему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F3CD-8006-4517-AA03-5E0AC6478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аскадно везивање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8259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"/>
          <p:cNvPicPr/>
          <p:nvPr/>
        </p:nvPicPr>
        <p:blipFill>
          <a:blip r:embed="rId1"/>
          <a:stretch/>
        </p:blipFill>
        <p:spPr>
          <a:xfrm>
            <a:off x="657360" y="1770120"/>
            <a:ext cx="782928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09F8-1D14-484B-91B4-6020A0234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и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оду никада не повезивати директно на напон напајања, обавезно редно везати неки потрошач (отпорник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арио начин имплементирања логичких кола помоћу диода (следећи слајд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F582-4A8B-4BF9-A070-726C7BEBD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Основни дијелови 8259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R (Interrupt Mask Regis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rupt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est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ist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ervic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ist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16BA-1370-465A-BA70-44F8A1FF5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MR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RR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8259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R (Interrupt Mask Regi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скирање појединих ул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дни број би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= број улаз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0 – демаскирањ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 – маскирањ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rup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es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ist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гистар за памћење тренутно активних захтјева за прек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 улаз повезан са одговарајућим би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ез обзира на мод, улаз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ра остати активан до силазне ивице првог импулс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г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 је импулс прекратак биће генерисан "лажни" прекид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285E-829F-4570-BE78-7F5792394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SR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у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8259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ervic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ist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сваки улаз по један б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хтјев са и-тог улаза се опслужује =&gt;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-ти бит регистра постављ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случају "лажног"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R7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рекида, одговарајући бит се не сету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 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плементација приорит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F019-5C51-4698-AE5B-2B2AAB889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квенца прихватања захтјева 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хтјев 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аље се захтјев 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ор шаље први негативни импул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азна ивица замрзава стање у свим 8259А како би се приоритети исправно израчун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узлазну ивицу мастер постављ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лин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R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 поставља бит највишег приоритета из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RR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0 највећи приоритет) (контролера чији ће се захтјев опслужит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7EC2-9EF8-4A17-9BF8-163858246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квенца прихватања захтјева 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сор шаље други негативни пулс н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A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 Одговарајући 8259А шаље број улаза за захтјев који је управо прихваћ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говарајућ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т се брише аутоматски у овом тренутку или се чека одговарајућа ЕОИ кома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3FB7-EA70-486B-950D-21370CDDC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ицијализ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Fig829b"/>
          <p:cNvPicPr/>
          <p:nvPr/>
        </p:nvPicPr>
        <p:blipFill>
          <a:blip r:embed="rId1"/>
          <a:srcRect l="0" t="0" r="0" b="5733"/>
          <a:stretch/>
        </p:blipFill>
        <p:spPr>
          <a:xfrm>
            <a:off x="1841400" y="1557360"/>
            <a:ext cx="1793880" cy="496728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"/>
          <p:cNvSpPr/>
          <p:nvPr/>
        </p:nvSpPr>
        <p:spPr>
          <a:xfrm>
            <a:off x="4343400" y="15238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W1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CW2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рају бити послате сва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259A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сис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4356000" y="2997360"/>
            <a:ext cx="360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 од јед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259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аље се јед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CW3 master-u,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 другач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CW3 slave-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4356000" y="4541760"/>
            <a:ext cx="381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86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ецифицирамо посебне у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W4 master-u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сва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ave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3852720" y="1628640"/>
            <a:ext cx="71640" cy="936720"/>
          </a:xfrm>
          <a:custGeom>
            <a:avLst/>
            <a:gdLst>
              <a:gd name="textAreaLeft" fmla="*/ 0 w 71640"/>
              <a:gd name="textAreaRight" fmla="*/ 25920 w 7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3851280" y="2997360"/>
            <a:ext cx="71280" cy="1081080"/>
          </a:xfrm>
          <a:custGeom>
            <a:avLst/>
            <a:gdLst>
              <a:gd name="textAreaLeft" fmla="*/ 0 w 71280"/>
              <a:gd name="textAreaRight" fmla="*/ 25560 w 71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3851280" y="4508640"/>
            <a:ext cx="144360" cy="1224000"/>
          </a:xfrm>
          <a:custGeom>
            <a:avLst/>
            <a:gdLst>
              <a:gd name="textAreaLeft" fmla="*/ 0 w 144360"/>
              <a:gd name="textAreaRight" fmla="*/ 5220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0"/>
          <p:cNvSpPr/>
          <p:nvPr/>
        </p:nvSpPr>
        <p:spPr>
          <a:xfrm>
            <a:off x="4343400" y="23623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0=0 и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4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=1 =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W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9B55-45FE-47A1-B9C0-E59FD670F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ICW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Fig829a"/>
          <p:cNvPicPr/>
          <p:nvPr/>
        </p:nvPicPr>
        <p:blipFill>
          <a:blip r:embed="rId1"/>
          <a:srcRect l="0" t="2146" r="0" b="69227"/>
          <a:stretch/>
        </p:blipFill>
        <p:spPr>
          <a:xfrm>
            <a:off x="1476360" y="1773360"/>
            <a:ext cx="6265800" cy="4195800"/>
          </a:xfrm>
          <a:prstGeom prst="rect">
            <a:avLst/>
          </a:prstGeom>
          <a:ln w="0">
            <a:noFill/>
          </a:ln>
        </p:spPr>
      </p:pic>
      <p:sp>
        <p:nvSpPr>
          <p:cNvPr id="527" name="Oval 4"/>
          <p:cNvSpPr/>
          <p:nvPr/>
        </p:nvSpPr>
        <p:spPr>
          <a:xfrm>
            <a:off x="1403280" y="1700280"/>
            <a:ext cx="647640" cy="100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79280" y="299736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Није дио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C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рна адреса којој се шаљ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179280" y="2924280"/>
            <a:ext cx="2232000" cy="115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7"/>
          <p:cNvSpPr/>
          <p:nvPr/>
        </p:nvSpPr>
        <p:spPr>
          <a:xfrm flipV="1">
            <a:off x="179280" y="2205000"/>
            <a:ext cx="1224000" cy="7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0"/>
          <p:cNvSpPr/>
          <p:nvPr/>
        </p:nvSpPr>
        <p:spPr>
          <a:xfrm>
            <a:off x="5580000" y="3716280"/>
            <a:ext cx="2087640" cy="64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1"/>
          <p:cNvSpPr/>
          <p:nvPr/>
        </p:nvSpPr>
        <p:spPr>
          <a:xfrm>
            <a:off x="5508720" y="5229360"/>
            <a:ext cx="2232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4"/>
          <p:cNvSpPr/>
          <p:nvPr/>
        </p:nvSpPr>
        <p:spPr>
          <a:xfrm>
            <a:off x="5562720" y="2209680"/>
            <a:ext cx="3200400" cy="6858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CW4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потреб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0 =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CW4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није потреб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5562720" y="2971800"/>
            <a:ext cx="3200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 = само је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0 = више од једног каска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5562720" y="3657600"/>
            <a:ext cx="3200400" cy="7621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 8086 небит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ави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5562720" y="4495680"/>
            <a:ext cx="3200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 – окидање на н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0 – окидање на ив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5562720" y="5334120"/>
            <a:ext cx="3200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 8086 небит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авити ну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F44C-FA9F-487E-A9B2-F07B02D59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ICW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ојеви улаза које ћ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8259A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лати процесо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ој улаза з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Ri = ICW2 +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Fig829a"/>
          <p:cNvPicPr/>
          <p:nvPr/>
        </p:nvPicPr>
        <p:blipFill>
          <a:blip r:embed="rId1"/>
          <a:srcRect l="0" t="32162" r="0" b="56788"/>
          <a:stretch/>
        </p:blipFill>
        <p:spPr>
          <a:xfrm>
            <a:off x="433440" y="3860640"/>
            <a:ext cx="8099280" cy="208764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39640" y="5445000"/>
            <a:ext cx="5040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4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C8D5-F3CD-4EB3-B180-B0398D3E4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ICW3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Ѕ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a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егова адреса која ће се појавити 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нија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ара редном броју линије 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коју је тај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lav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з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as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ормација на којим линијама постој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lav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 – на одговарајућем улазу 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l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3124080" y="6550200"/>
            <a:ext cx="2895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ша Стојан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55308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21EA-5A64-48FD-AA3E-28BE45EE5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ICW3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3"/>
          <p:cNvGrpSpPr/>
          <p:nvPr/>
        </p:nvGrpSpPr>
        <p:grpSpPr>
          <a:xfrm>
            <a:off x="611280" y="2131920"/>
            <a:ext cx="8137440" cy="1657440"/>
            <a:chOff x="611280" y="2131920"/>
            <a:chExt cx="8137440" cy="1657440"/>
          </a:xfrm>
        </p:grpSpPr>
        <p:pic>
          <p:nvPicPr>
            <p:cNvPr id="552" name="Picture 4" descr="Fig829a"/>
            <p:cNvPicPr/>
            <p:nvPr/>
          </p:nvPicPr>
          <p:blipFill>
            <a:blip r:embed="rId1"/>
            <a:srcRect l="0" t="42695" r="0" b="48629"/>
            <a:stretch/>
          </p:blipFill>
          <p:spPr>
            <a:xfrm>
              <a:off x="611280" y="2185920"/>
              <a:ext cx="7993080" cy="14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Rectangle 5"/>
            <p:cNvSpPr/>
            <p:nvPr/>
          </p:nvSpPr>
          <p:spPr>
            <a:xfrm>
              <a:off x="826920" y="3500280"/>
              <a:ext cx="475308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6"/>
            <p:cNvSpPr/>
            <p:nvPr/>
          </p:nvSpPr>
          <p:spPr>
            <a:xfrm>
              <a:off x="5724360" y="2131920"/>
              <a:ext cx="3024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5" name="Picture 7" descr="Fig829a"/>
          <p:cNvPicPr/>
          <p:nvPr/>
        </p:nvPicPr>
        <p:blipFill>
          <a:blip r:embed="rId2"/>
          <a:srcRect l="0" t="52941" r="0" b="34430"/>
          <a:stretch/>
        </p:blipFill>
        <p:spPr>
          <a:xfrm>
            <a:off x="611280" y="4005360"/>
            <a:ext cx="8016840" cy="212724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8"/>
          <p:cNvSpPr/>
          <p:nvPr/>
        </p:nvSpPr>
        <p:spPr>
          <a:xfrm>
            <a:off x="6588000" y="2205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Master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-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900000" y="5157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Свим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slave-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о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sa</dc:creator>
  <dc:description/>
  <dc:language>en-US</dc:language>
  <cp:lastModifiedBy>Sasa</cp:lastModifiedBy>
  <dcterms:modified xsi:type="dcterms:W3CDTF">2013-09-26T07:54:00Z</dcterms:modified>
  <cp:revision>3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